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7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3CE1-FDC3-4562-A059-7AE33F0F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ginal plan was for the development of 8 methods; however only IDEFØ Activity Modeling and IDEF1 Information Modeling were developed under the ICAM Program.  IDEF2 was also released under this program, but was not successful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360" y="25560"/>
            <a:ext cx="8342280" cy="7459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6600" y="6459480"/>
            <a:ext cx="6100920" cy="0"/>
          </a:xfrm>
          <a:prstGeom prst="line">
            <a:avLst/>
          </a:prstGeom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5200" y="533520"/>
            <a:ext cx="7980480" cy="1440"/>
          </a:xfrm>
          <a:prstGeom prst="line">
            <a:avLst/>
          </a:prstGeom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758080" cy="12952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7560" y="914400"/>
            <a:ext cx="773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DEF Methods for BPR to Support 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948040"/>
            <a:ext cx="3952800" cy="390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36600" y="6459480"/>
            <a:ext cx="6100920" cy="0"/>
          </a:xfrm>
          <a:prstGeom prst="line">
            <a:avLst/>
          </a:prstGeom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97160" y="3124080"/>
            <a:ext cx="59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rehensive Solutions for a Complex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-209520"/>
            <a:ext cx="7778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ere to use ID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057320"/>
            <a:ext cx="7963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37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LS Implementations--transitioning from paper to electroni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37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siness Process Reengineering /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37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siness / Manufacturing System Documentation/ISO 9000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37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/Information Syste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37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ufacturing Systems Analysis and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65324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 The Beginning. . 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3487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DEF0 -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ctivity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DEF1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- Information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DEF1X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 - Logical 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0"/>
            <a:ext cx="7772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Nex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0880" y="1528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280" y="1752480"/>
            <a:ext cx="880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IDEF3 -</a:t>
            </a:r>
            <a:r>
              <a:rPr b="0" i="1" lang="en-US" sz="3800" spc="-1" strike="noStrike">
                <a:solidFill>
                  <a:srgbClr val="3333cc"/>
                </a:solidFill>
                <a:latin typeface="Times New Roman"/>
              </a:rPr>
              <a:t> Process Model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IDEF4 - </a:t>
            </a:r>
            <a:r>
              <a:rPr b="0" i="1" lang="en-US" sz="3800" spc="-1" strike="noStrike">
                <a:solidFill>
                  <a:srgbClr val="3333cc"/>
                </a:solidFill>
                <a:latin typeface="Times New Roman"/>
              </a:rPr>
              <a:t>Object-Oriented Design and Analy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IDEF5 - </a:t>
            </a:r>
            <a:r>
              <a:rPr b="0" i="1" lang="en-US" sz="3800" spc="-1" strike="noStrike">
                <a:solidFill>
                  <a:srgbClr val="3333cc"/>
                </a:solidFill>
                <a:latin typeface="Times New Roman"/>
              </a:rPr>
              <a:t>Ontology Descrip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IDEF9 - </a:t>
            </a:r>
            <a:r>
              <a:rPr b="0" i="1" lang="en-US" sz="3800" spc="-1" strike="noStrike">
                <a:solidFill>
                  <a:srgbClr val="3333cc"/>
                </a:solidFill>
                <a:latin typeface="Times New Roman"/>
              </a:rPr>
              <a:t>Business Constraint Descrip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360" y="-357480"/>
            <a:ext cx="819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pport for Systems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3600" y="1108080"/>
            <a:ext cx="7886520" cy="304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59640" indent="-35964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DEFØ is used to document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what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he enterprise do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9640" indent="-35964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DEF3 models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how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he enterprise does what it do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9640" indent="-35964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DEF1/1X capture how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information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is used to support what the enterprise does and how it does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800600"/>
            <a:ext cx="752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With IDEF, systems development is based on real-world knowledge, not unrealistic go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67480" y="4518000"/>
            <a:ext cx="144936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6280" y="933480"/>
            <a:ext cx="8267760" cy="485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-228600"/>
            <a:ext cx="7778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pport for BPR Eff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28560" y="1100160"/>
            <a:ext cx="8001000" cy="1505880"/>
            <a:chOff x="628560" y="1100160"/>
            <a:chExt cx="8001000" cy="1505880"/>
          </a:xfrm>
        </p:grpSpPr>
        <p:sp>
          <p:nvSpPr>
            <p:cNvPr id="93" name=""/>
            <p:cNvSpPr/>
            <p:nvPr/>
          </p:nvSpPr>
          <p:spPr>
            <a:xfrm>
              <a:off x="628560" y="1104840"/>
              <a:ext cx="80010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Capture Activities and Their Relationships; Identify Core Activities; Identify Activities for Reengine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704880" y="1100160"/>
              <a:ext cx="18288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8c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IDEFØ:  </a:t>
              </a:r>
              <a:endParaRPr b="1" lang="en-US" sz="2400" spc="1" strike="noStrike">
                <a:ln w="0">
                  <a:noFill/>
                </a:ln>
                <a:solidFill>
                  <a:srgbClr val="00008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8560" y="2805120"/>
            <a:ext cx="8001000" cy="1553760"/>
            <a:chOff x="628560" y="2805120"/>
            <a:chExt cx="8001000" cy="1553760"/>
          </a:xfrm>
        </p:grpSpPr>
        <p:sp>
          <p:nvSpPr>
            <p:cNvPr id="96" name=""/>
            <p:cNvSpPr/>
            <p:nvPr/>
          </p:nvSpPr>
          <p:spPr>
            <a:xfrm>
              <a:off x="628560" y="2857680"/>
              <a:ext cx="80010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</a:rPr>
                <a:t>Describe Business Processes; Redesign Processes for Improvement; Use Process Descriptions for Sim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728640" y="2805120"/>
              <a:ext cx="17049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9900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IDEF3:  </a:t>
              </a:r>
              <a:endParaRPr b="1" lang="en-US" sz="24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28560" y="4614840"/>
            <a:ext cx="8001000" cy="1084680"/>
            <a:chOff x="628560" y="4614840"/>
            <a:chExt cx="8001000" cy="1084680"/>
          </a:xfrm>
        </p:grpSpPr>
        <p:sp>
          <p:nvSpPr>
            <p:cNvPr id="99" name=""/>
            <p:cNvSpPr/>
            <p:nvPr/>
          </p:nvSpPr>
          <p:spPr>
            <a:xfrm>
              <a:off x="628560" y="4667400"/>
              <a:ext cx="8001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                          </a:t>
              </a: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Capture How Data and Information Are Used to Support Business Proc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752400" y="4614840"/>
              <a:ext cx="2266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66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IDEF1/1X:  </a:t>
              </a:r>
              <a:endPara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3756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ext Generation of IDEF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800" y="10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urrently Envision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6 - Design Rationale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7 - Information System Audi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8 - Human-System Interaction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9 - Business-Constraint Discovery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10 - Implementation Architectur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11 - Information Artifact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12 - Organizational Desig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13 - 3-Schema Architecture Desig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F14 - Network / Distribution Desig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7680" y="276120"/>
            <a:ext cx="86439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IDEFØ Captures </a:t>
            </a:r>
            <a:r>
              <a:rPr b="1" lang="en-US" sz="4600" spc="-1" strike="noStrike" u="sng">
                <a:solidFill>
                  <a:srgbClr val="ff0000"/>
                </a:solidFill>
                <a:uFillTx/>
                <a:latin typeface="Times New Roman"/>
              </a:rPr>
              <a:t>What</a:t>
            </a: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 an Enterprise Do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14560" y="2685960"/>
            <a:ext cx="6983280" cy="3396600"/>
            <a:chOff x="1114560" y="2685960"/>
            <a:chExt cx="6983280" cy="3396600"/>
          </a:xfrm>
        </p:grpSpPr>
        <p:grpSp>
          <p:nvGrpSpPr>
            <p:cNvPr id="105" name=""/>
            <p:cNvGrpSpPr/>
            <p:nvPr/>
          </p:nvGrpSpPr>
          <p:grpSpPr>
            <a:xfrm>
              <a:off x="4440240" y="3768480"/>
              <a:ext cx="196920" cy="230040"/>
              <a:chOff x="4440240" y="3768480"/>
              <a:chExt cx="196920" cy="230040"/>
            </a:xfrm>
          </p:grpSpPr>
          <p:sp>
            <p:nvSpPr>
              <p:cNvPr id="106" name=""/>
              <p:cNvSpPr/>
              <p:nvPr/>
            </p:nvSpPr>
            <p:spPr>
              <a:xfrm>
                <a:off x="4440240" y="3773160"/>
                <a:ext cx="196920" cy="225360"/>
              </a:xfrm>
              <a:custGeom>
                <a:avLst/>
                <a:gdLst/>
                <a:ahLst/>
                <a:rect l="l" t="t" r="r" b="b"/>
                <a:pathLst>
                  <a:path w="124" h="142">
                    <a:moveTo>
                      <a:pt x="56" y="141"/>
                    </a:moveTo>
                    <a:lnTo>
                      <a:pt x="123" y="4"/>
                    </a:lnTo>
                    <a:lnTo>
                      <a:pt x="0" y="0"/>
                    </a:lnTo>
                    <a:lnTo>
                      <a:pt x="56" y="14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0920000">
                <a:off x="4446000" y="3771720"/>
                <a:ext cx="182520" cy="144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613560" y="4965480"/>
              <a:ext cx="196920" cy="230040"/>
              <a:chOff x="6613560" y="4965480"/>
              <a:chExt cx="196920" cy="230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613560" y="4971960"/>
                <a:ext cx="196920" cy="223560"/>
              </a:xfrm>
              <a:custGeom>
                <a:avLst/>
                <a:gdLst/>
                <a:ahLst/>
                <a:rect l="l" t="t" r="r" b="b"/>
                <a:pathLst>
                  <a:path w="124" h="141">
                    <a:moveTo>
                      <a:pt x="56" y="140"/>
                    </a:moveTo>
                    <a:lnTo>
                      <a:pt x="123" y="4"/>
                    </a:lnTo>
                    <a:lnTo>
                      <a:pt x="0" y="0"/>
                    </a:lnTo>
                    <a:lnTo>
                      <a:pt x="56" y="14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0920000">
                <a:off x="6619320" y="4968720"/>
                <a:ext cx="182520" cy="158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083360" y="5532120"/>
              <a:ext cx="785880" cy="69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92640" y="4389120"/>
              <a:ext cx="441360" cy="69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16080" y="3160440"/>
              <a:ext cx="443160" cy="63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7870680" y="5466960"/>
              <a:ext cx="227160" cy="196920"/>
              <a:chOff x="7870680" y="5466960"/>
              <a:chExt cx="227160" cy="196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875720" y="5466960"/>
                <a:ext cx="222120" cy="196920"/>
              </a:xfrm>
              <a:custGeom>
                <a:avLst/>
                <a:gdLst/>
                <a:ahLst/>
                <a:rect l="l" t="t" r="r" b="b"/>
                <a:pathLst>
                  <a:path w="140" h="124">
                    <a:moveTo>
                      <a:pt x="139" y="62"/>
                    </a:moveTo>
                    <a:lnTo>
                      <a:pt x="0" y="0"/>
                    </a:lnTo>
                    <a:lnTo>
                      <a:pt x="0" y="123"/>
                    </a:lnTo>
                    <a:lnTo>
                      <a:pt x="139" y="6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70680" y="5473440"/>
                <a:ext cx="16200" cy="182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80000" y="4389120"/>
              <a:ext cx="69840" cy="1224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41600" y="4341600"/>
              <a:ext cx="319320" cy="69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41600" y="3203280"/>
              <a:ext cx="39960" cy="1168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1240" y="3178080"/>
              <a:ext cx="33120" cy="610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75480" y="3178080"/>
              <a:ext cx="57240" cy="1788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0360" y="5518080"/>
              <a:ext cx="2206800" cy="69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80000" y="5544720"/>
              <a:ext cx="320760" cy="702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4984560"/>
              <a:ext cx="38160" cy="6094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5160" y="3803400"/>
              <a:ext cx="54000" cy="1774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2200" y="2685960"/>
              <a:ext cx="1392120" cy="955440"/>
            </a:xfrm>
            <a:custGeom>
              <a:avLst/>
              <a:gdLst/>
              <a:ahLst/>
              <a:rect l="l" t="t" r="r" b="b"/>
              <a:pathLst>
                <a:path w="877" h="602">
                  <a:moveTo>
                    <a:pt x="0" y="601"/>
                  </a:moveTo>
                  <a:lnTo>
                    <a:pt x="0" y="74"/>
                  </a:lnTo>
                  <a:lnTo>
                    <a:pt x="116" y="0"/>
                  </a:lnTo>
                  <a:lnTo>
                    <a:pt x="876" y="0"/>
                  </a:lnTo>
                  <a:lnTo>
                    <a:pt x="876" y="527"/>
                  </a:lnTo>
                  <a:lnTo>
                    <a:pt x="760" y="601"/>
                  </a:lnTo>
                  <a:lnTo>
                    <a:pt x="0" y="601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1560" y="2815920"/>
              <a:ext cx="1203480" cy="8301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779480" y="2687040"/>
              <a:ext cx="15732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782720" y="3522240"/>
              <a:ext cx="15552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89440" y="3519000"/>
              <a:ext cx="15840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89440" y="2690280"/>
              <a:ext cx="15552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2640" y="2701800"/>
              <a:ext cx="1203480" cy="8301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662120" y="3090600"/>
              <a:ext cx="227160" cy="196920"/>
              <a:chOff x="1662120" y="3090600"/>
              <a:chExt cx="227160" cy="196920"/>
            </a:xfrm>
          </p:grpSpPr>
          <p:sp>
            <p:nvSpPr>
              <p:cNvPr id="134" name=""/>
              <p:cNvSpPr/>
              <p:nvPr/>
            </p:nvSpPr>
            <p:spPr>
              <a:xfrm>
                <a:off x="1666800" y="3090600"/>
                <a:ext cx="222480" cy="196920"/>
              </a:xfrm>
              <a:custGeom>
                <a:avLst/>
                <a:gdLst/>
                <a:ahLst/>
                <a:rect l="l" t="t" r="r" b="b"/>
                <a:pathLst>
                  <a:path w="140" h="124">
                    <a:moveTo>
                      <a:pt x="139" y="62"/>
                    </a:moveTo>
                    <a:lnTo>
                      <a:pt x="0" y="0"/>
                    </a:lnTo>
                    <a:lnTo>
                      <a:pt x="0" y="123"/>
                    </a:lnTo>
                    <a:lnTo>
                      <a:pt x="139" y="6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62120" y="3097080"/>
                <a:ext cx="14400" cy="182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114560" y="3155760"/>
              <a:ext cx="544320" cy="60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344680" y="3574800"/>
              <a:ext cx="196920" cy="225360"/>
              <a:chOff x="2344680" y="3574800"/>
              <a:chExt cx="196920" cy="225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344680" y="3574800"/>
                <a:ext cx="196920" cy="222120"/>
              </a:xfrm>
              <a:custGeom>
                <a:avLst/>
                <a:gdLst/>
                <a:ahLst/>
                <a:rect l="l" t="t" r="r" b="b"/>
                <a:pathLst>
                  <a:path w="124" h="140">
                    <a:moveTo>
                      <a:pt x="62" y="0"/>
                    </a:moveTo>
                    <a:lnTo>
                      <a:pt x="0" y="139"/>
                    </a:lnTo>
                    <a:lnTo>
                      <a:pt x="123" y="13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51160" y="3786120"/>
                <a:ext cx="182520" cy="140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895560" y="3903480"/>
              <a:ext cx="1392480" cy="955440"/>
            </a:xfrm>
            <a:custGeom>
              <a:avLst/>
              <a:gdLst/>
              <a:ahLst/>
              <a:rect l="l" t="t" r="r" b="b"/>
              <a:pathLst>
                <a:path w="877" h="602">
                  <a:moveTo>
                    <a:pt x="0" y="601"/>
                  </a:moveTo>
                  <a:lnTo>
                    <a:pt x="0" y="70"/>
                  </a:lnTo>
                  <a:lnTo>
                    <a:pt x="116" y="0"/>
                  </a:lnTo>
                  <a:lnTo>
                    <a:pt x="876" y="0"/>
                  </a:lnTo>
                  <a:lnTo>
                    <a:pt x="876" y="524"/>
                  </a:lnTo>
                  <a:lnTo>
                    <a:pt x="756" y="597"/>
                  </a:lnTo>
                  <a:lnTo>
                    <a:pt x="0" y="601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902040" y="3895200"/>
              <a:ext cx="1386000" cy="978120"/>
              <a:chOff x="3902040" y="3895200"/>
              <a:chExt cx="1386000" cy="978120"/>
            </a:xfrm>
          </p:grpSpPr>
          <p:sp>
            <p:nvSpPr>
              <p:cNvPr id="142" name=""/>
              <p:cNvSpPr/>
              <p:nvPr/>
            </p:nvSpPr>
            <p:spPr>
              <a:xfrm>
                <a:off x="3902040" y="4024080"/>
                <a:ext cx="1203480" cy="83016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911760" y="3895200"/>
                <a:ext cx="15552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913200" y="4730400"/>
                <a:ext cx="157320" cy="13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119560" y="4727160"/>
                <a:ext cx="160560" cy="14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119560" y="3898440"/>
                <a:ext cx="15732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84560" y="3909600"/>
                <a:ext cx="1203480" cy="8305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762360" y="4282920"/>
              <a:ext cx="227160" cy="196920"/>
              <a:chOff x="3762360" y="4282920"/>
              <a:chExt cx="227160" cy="196920"/>
            </a:xfrm>
          </p:grpSpPr>
          <p:sp>
            <p:nvSpPr>
              <p:cNvPr id="149" name=""/>
              <p:cNvSpPr/>
              <p:nvPr/>
            </p:nvSpPr>
            <p:spPr>
              <a:xfrm>
                <a:off x="3767040" y="4282920"/>
                <a:ext cx="222480" cy="196920"/>
              </a:xfrm>
              <a:custGeom>
                <a:avLst/>
                <a:gdLst/>
                <a:ahLst/>
                <a:rect l="l" t="t" r="r" b="b"/>
                <a:pathLst>
                  <a:path w="140" h="124">
                    <a:moveTo>
                      <a:pt x="139" y="62"/>
                    </a:moveTo>
                    <a:lnTo>
                      <a:pt x="0" y="0"/>
                    </a:lnTo>
                    <a:lnTo>
                      <a:pt x="0" y="123"/>
                    </a:lnTo>
                    <a:lnTo>
                      <a:pt x="139" y="6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62360" y="4289040"/>
                <a:ext cx="14400" cy="1828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492800" y="4755960"/>
              <a:ext cx="198360" cy="225360"/>
              <a:chOff x="4492800" y="4755960"/>
              <a:chExt cx="198360" cy="225360"/>
            </a:xfrm>
          </p:grpSpPr>
          <p:sp>
            <p:nvSpPr>
              <p:cNvPr id="152" name=""/>
              <p:cNvSpPr/>
              <p:nvPr/>
            </p:nvSpPr>
            <p:spPr>
              <a:xfrm>
                <a:off x="4492800" y="4755960"/>
                <a:ext cx="198360" cy="22212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62" y="0"/>
                    </a:moveTo>
                    <a:lnTo>
                      <a:pt x="0" y="139"/>
                    </a:lnTo>
                    <a:lnTo>
                      <a:pt x="124" y="139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98920" y="4966920"/>
                <a:ext cx="184320" cy="144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035760" y="5114520"/>
              <a:ext cx="1385640" cy="951120"/>
            </a:xfrm>
            <a:custGeom>
              <a:avLst/>
              <a:gdLst/>
              <a:ahLst/>
              <a:rect l="l" t="t" r="r" b="b"/>
              <a:pathLst>
                <a:path w="873" h="599">
                  <a:moveTo>
                    <a:pt x="0" y="598"/>
                  </a:moveTo>
                  <a:lnTo>
                    <a:pt x="0" y="63"/>
                  </a:lnTo>
                  <a:lnTo>
                    <a:pt x="120" y="0"/>
                  </a:lnTo>
                  <a:lnTo>
                    <a:pt x="872" y="0"/>
                  </a:lnTo>
                  <a:lnTo>
                    <a:pt x="872" y="524"/>
                  </a:lnTo>
                  <a:lnTo>
                    <a:pt x="763" y="594"/>
                  </a:lnTo>
                  <a:lnTo>
                    <a:pt x="0" y="598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033960" y="5104800"/>
              <a:ext cx="1384560" cy="977760"/>
              <a:chOff x="6033960" y="5104800"/>
              <a:chExt cx="1384560" cy="977760"/>
            </a:xfrm>
          </p:grpSpPr>
          <p:sp>
            <p:nvSpPr>
              <p:cNvPr id="156" name=""/>
              <p:cNvSpPr/>
              <p:nvPr/>
            </p:nvSpPr>
            <p:spPr>
              <a:xfrm>
                <a:off x="6033960" y="5233680"/>
                <a:ext cx="1203480" cy="83016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41880" y="5104800"/>
                <a:ext cx="15588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045120" y="5940000"/>
                <a:ext cx="15552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251840" y="5936760"/>
                <a:ext cx="158760" cy="14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251840" y="5108040"/>
                <a:ext cx="15552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15040" y="5119560"/>
                <a:ext cx="1203480" cy="83016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904000" y="5481360"/>
              <a:ext cx="226800" cy="196920"/>
              <a:chOff x="5904000" y="5481360"/>
              <a:chExt cx="226800" cy="196920"/>
            </a:xfrm>
          </p:grpSpPr>
          <p:sp>
            <p:nvSpPr>
              <p:cNvPr id="163" name=""/>
              <p:cNvSpPr/>
              <p:nvPr/>
            </p:nvSpPr>
            <p:spPr>
              <a:xfrm>
                <a:off x="5908680" y="5481360"/>
                <a:ext cx="222120" cy="196920"/>
              </a:xfrm>
              <a:custGeom>
                <a:avLst/>
                <a:gdLst/>
                <a:ahLst/>
                <a:rect l="l" t="t" r="r" b="b"/>
                <a:pathLst>
                  <a:path w="140" h="124">
                    <a:moveTo>
                      <a:pt x="139" y="62"/>
                    </a:moveTo>
                    <a:lnTo>
                      <a:pt x="0" y="0"/>
                    </a:lnTo>
                    <a:lnTo>
                      <a:pt x="0" y="123"/>
                    </a:lnTo>
                    <a:lnTo>
                      <a:pt x="139" y="6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4000" y="5487840"/>
                <a:ext cx="15840" cy="182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426440" y="5446440"/>
              <a:ext cx="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9680" y="3178080"/>
              <a:ext cx="2163960" cy="54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3912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Why Develop An IDEFØ Activity Model?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25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identify, document, and communicate an enterprise’s core activit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understand how activities relate to one ano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identify value-added and non-value-added activit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identify activities that need to be im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Benefits of Activity Mod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ts val="3498"/>
              </a:lnSpc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Documents current activit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3498"/>
              </a:lnSpc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Reduces the learning curve for new activity user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4198"/>
              </a:lnSpc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Captures and analyzes As-Is activiti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4198"/>
              </a:lnSpc>
              <a:spcBef>
                <a:spcPts val="14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Facilitates the design/redesign of activities for To-Be scenario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139680"/>
            <a:ext cx="180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88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IDEFØ Activity 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5840" y="1244520"/>
            <a:ext cx="9086760" cy="5212440"/>
            <a:chOff x="285840" y="1244520"/>
            <a:chExt cx="9086760" cy="5212440"/>
          </a:xfrm>
        </p:grpSpPr>
        <p:sp>
          <p:nvSpPr>
            <p:cNvPr id="174" name=""/>
            <p:cNvSpPr/>
            <p:nvPr/>
          </p:nvSpPr>
          <p:spPr>
            <a:xfrm>
              <a:off x="6213600" y="3619440"/>
              <a:ext cx="3159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what is produced by 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ity, e.g., report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s,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5840" y="1244520"/>
              <a:ext cx="8210520" cy="5212440"/>
              <a:chOff x="285840" y="1244520"/>
              <a:chExt cx="8210520" cy="5212440"/>
            </a:xfrm>
          </p:grpSpPr>
          <p:sp>
            <p:nvSpPr>
              <p:cNvPr id="176" name=""/>
              <p:cNvSpPr/>
              <p:nvPr/>
            </p:nvSpPr>
            <p:spPr>
              <a:xfrm>
                <a:off x="5958000" y="3559320"/>
                <a:ext cx="842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28760" y="3559320"/>
                <a:ext cx="871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433760" y="4417920"/>
                <a:ext cx="0" cy="1030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33760" y="1752480"/>
                <a:ext cx="0" cy="873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82760" y="2670120"/>
                <a:ext cx="2711520" cy="1701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55680" y="2863800"/>
                <a:ext cx="14007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cc3300"/>
                    </a:solidFill>
                    <a:latin typeface="Arial"/>
                  </a:rPr>
                  <a:t>Inpu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03520" y="1244520"/>
                <a:ext cx="1853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cc3300"/>
                    </a:solidFill>
                    <a:latin typeface="Arial"/>
                  </a:rPr>
                  <a:t>Contr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24800" y="5302080"/>
                <a:ext cx="2618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cc3300"/>
                    </a:solidFill>
                    <a:latin typeface="Arial"/>
                  </a:rPr>
                  <a:t>Mechanism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12720" y="2889360"/>
                <a:ext cx="2407680" cy="13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008c"/>
                    </a:solidFill>
                    <a:latin typeface="Times New Roman"/>
                  </a:rPr>
                  <a:t>Function or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008c"/>
                    </a:solidFill>
                    <a:latin typeface="Times New Roman"/>
                  </a:rPr>
                  <a:t>Activity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008c"/>
                    </a:solidFill>
                    <a:latin typeface="Times New Roman"/>
                  </a:rPr>
                  <a:t>(</a:t>
                </a:r>
                <a:r>
                  <a:rPr b="0" i="1" lang="en-US" sz="3300" spc="-1" strike="noStrike">
                    <a:solidFill>
                      <a:srgbClr val="00008c"/>
                    </a:solidFill>
                    <a:latin typeface="Times New Roman"/>
                  </a:rPr>
                  <a:t>Verb Phase</a:t>
                </a:r>
                <a:r>
                  <a:rPr b="0" lang="en-US" sz="3300" spc="-1" strike="noStrike">
                    <a:solidFill>
                      <a:srgbClr val="00008c"/>
                    </a:solidFill>
                    <a:latin typeface="Times New Roman"/>
                  </a:rPr>
                  <a:t>)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83800" y="2863800"/>
                <a:ext cx="1740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cc3300"/>
                    </a:solidFill>
                    <a:latin typeface="Arial"/>
                  </a:rPr>
                  <a:t>Outpu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94320" y="1638360"/>
                <a:ext cx="390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constraints on an activity, e.g., procedures, budgets, etc.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57680" y="5753160"/>
                <a:ext cx="462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what enables an activity, e.g., equipment, personnel assignments, etc.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5840" y="3457440"/>
                <a:ext cx="245412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what is required before an activity can occur, e.g., purchase order, supervisor’s signature, etc.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DEF and 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S technologies enabl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aperless environment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the electronic flow of inform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lementation of CALS technologies require a re-engineering of enterpr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ext, Purpose, and Viewpoin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57200" y="1447920"/>
            <a:ext cx="3763800" cy="4711680"/>
            <a:chOff x="457200" y="1447920"/>
            <a:chExt cx="3763800" cy="4711680"/>
          </a:xfrm>
        </p:grpSpPr>
        <p:sp>
          <p:nvSpPr>
            <p:cNvPr id="191" name=""/>
            <p:cNvSpPr/>
            <p:nvPr/>
          </p:nvSpPr>
          <p:spPr>
            <a:xfrm>
              <a:off x="457200" y="1447920"/>
              <a:ext cx="3759120" cy="4254480"/>
            </a:xfrm>
            <a:prstGeom prst="rect">
              <a:avLst/>
            </a:prstGeom>
            <a:solidFill>
              <a:srgbClr val="f9f9f9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240" y="1481400"/>
              <a:ext cx="374976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The context defines the boundaries of your model—i.e., what will be included in the model. 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For example, Employee/Position Data comes from outside the model.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62640" y="2295360"/>
            <a:ext cx="4062600" cy="3648240"/>
            <a:chOff x="4562640" y="2295360"/>
            <a:chExt cx="4062600" cy="3648240"/>
          </a:xfrm>
        </p:grpSpPr>
        <p:sp>
          <p:nvSpPr>
            <p:cNvPr id="194" name=""/>
            <p:cNvSpPr/>
            <p:nvPr/>
          </p:nvSpPr>
          <p:spPr>
            <a:xfrm>
              <a:off x="6186600" y="3471840"/>
              <a:ext cx="1074600" cy="110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8280" y="374652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8280" y="402588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5720" y="430524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73800" y="402588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73800" y="436104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1720" y="2381400"/>
              <a:ext cx="468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94480" y="2633760"/>
              <a:ext cx="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2560" y="29131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08840" y="319392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00800" y="4578480"/>
              <a:ext cx="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697800" y="457812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956280" y="457812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08200" y="3630600"/>
              <a:ext cx="104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98080" y="3479760"/>
              <a:ext cx="1182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pplicant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86400" y="3770280"/>
              <a:ext cx="1393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ustomer Reque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62640" y="4292640"/>
              <a:ext cx="14342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mployee/Position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79920" y="3732120"/>
              <a:ext cx="1319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4680" y="4068720"/>
              <a:ext cx="693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por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8000" y="5648400"/>
              <a:ext cx="1493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formation 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0320" y="5407200"/>
              <a:ext cx="1653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Office Staf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64840" y="5092560"/>
              <a:ext cx="1681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plies &amp; Equip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6560" y="2295360"/>
              <a:ext cx="165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Regul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08880" y="2573280"/>
              <a:ext cx="1420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epartment Poli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64760" y="2854440"/>
              <a:ext cx="1713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ervisor Instru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5880" y="3147840"/>
              <a:ext cx="1539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anning 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4686480" y="995400"/>
            <a:ext cx="2943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TEXT</a:t>
            </a:r>
            <a:endParaRPr b="1" lang="en-US" sz="5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879800" y="1204920"/>
            <a:ext cx="3921120" cy="1949400"/>
            <a:chOff x="4879800" y="1204920"/>
            <a:chExt cx="3921120" cy="1949400"/>
          </a:xfrm>
        </p:grpSpPr>
        <p:sp>
          <p:nvSpPr>
            <p:cNvPr id="222" name=""/>
            <p:cNvSpPr/>
            <p:nvPr/>
          </p:nvSpPr>
          <p:spPr>
            <a:xfrm>
              <a:off x="4902120" y="1204920"/>
              <a:ext cx="3835440" cy="1949400"/>
            </a:xfrm>
            <a:prstGeom prst="rect">
              <a:avLst/>
            </a:prstGeom>
            <a:solidFill>
              <a:srgbClr val="f9f9f9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9800" y="1252440"/>
              <a:ext cx="392112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define purpose as the reason to develop this particular activity mode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935600" y="3390840"/>
            <a:ext cx="36543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ocument the activities associated with managing Personnel Actions and identify non-value-added activities that might be 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1760" y="3488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ext, Purpose, and Viewpoin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620000">
            <a:off x="425520" y="4812840"/>
            <a:ext cx="1873080" cy="425520"/>
          </a:xfrm>
          <a:prstGeom prst="rightArrow">
            <a:avLst>
              <a:gd name="adj1" fmla="val 21861"/>
              <a:gd name="adj2" fmla="val 194640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096920"/>
            <a:ext cx="3105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RPOSE</a:t>
            </a:r>
            <a:endParaRPr b="1" lang="en-US" sz="5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8320" y="2143080"/>
            <a:ext cx="4062600" cy="3648240"/>
            <a:chOff x="508320" y="2143080"/>
            <a:chExt cx="4062600" cy="3648240"/>
          </a:xfrm>
        </p:grpSpPr>
        <p:sp>
          <p:nvSpPr>
            <p:cNvPr id="229" name=""/>
            <p:cNvSpPr/>
            <p:nvPr/>
          </p:nvSpPr>
          <p:spPr>
            <a:xfrm>
              <a:off x="2132280" y="3319560"/>
              <a:ext cx="1074600" cy="110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3960" y="359424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960" y="387360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1400" y="415296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19480" y="387360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19480" y="420876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7400" y="2229120"/>
              <a:ext cx="468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40160" y="2481480"/>
              <a:ext cx="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48240" y="27608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54520" y="304164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46480" y="4426200"/>
              <a:ext cx="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643480" y="442584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901960" y="442584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53880" y="3478320"/>
              <a:ext cx="104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3760" y="3327480"/>
              <a:ext cx="1182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pplicant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2080" y="3618000"/>
              <a:ext cx="1393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ustomer Reque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8320" y="4140360"/>
              <a:ext cx="14342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mployee/Position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25600" y="3579840"/>
              <a:ext cx="1319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40360" y="3916440"/>
              <a:ext cx="693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por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53680" y="5496120"/>
              <a:ext cx="1493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formation 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6000" y="5254920"/>
              <a:ext cx="1653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Office Staf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0520" y="4940280"/>
              <a:ext cx="1681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plies &amp; Equip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52240" y="2143080"/>
              <a:ext cx="165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Regul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54560" y="2421000"/>
              <a:ext cx="1420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epartment Poli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10440" y="2702160"/>
              <a:ext cx="1713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ervisor Instru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31560" y="2995560"/>
              <a:ext cx="1539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anning 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311040" y="1873080"/>
            <a:ext cx="3764160" cy="3054600"/>
            <a:chOff x="311040" y="1873080"/>
            <a:chExt cx="3764160" cy="3054600"/>
          </a:xfrm>
        </p:grpSpPr>
        <p:sp>
          <p:nvSpPr>
            <p:cNvPr id="256" name=""/>
            <p:cNvSpPr/>
            <p:nvPr/>
          </p:nvSpPr>
          <p:spPr>
            <a:xfrm>
              <a:off x="311040" y="1873080"/>
              <a:ext cx="3759480" cy="305460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1760" y="1887480"/>
              <a:ext cx="3673440" cy="30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ewpoint can be thought of as the perspective of the person/group developing the mode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760" y="28548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ext, Purpose, and Viewpoin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78240" y="5316480"/>
            <a:ext cx="36543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iew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nel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9620000">
            <a:off x="4425840" y="4939920"/>
            <a:ext cx="1873440" cy="425520"/>
          </a:xfrm>
          <a:prstGeom prst="rightArrow">
            <a:avLst>
              <a:gd name="adj1" fmla="val 22963"/>
              <a:gd name="adj2" fmla="val 198448"/>
            </a:avLst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38520" y="919080"/>
            <a:ext cx="3419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VIEWPOINT</a:t>
            </a:r>
            <a:endParaRPr b="1" lang="en-US" sz="5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62640" y="2209680"/>
            <a:ext cx="4062600" cy="3648240"/>
            <a:chOff x="4562640" y="2209680"/>
            <a:chExt cx="4062600" cy="3648240"/>
          </a:xfrm>
        </p:grpSpPr>
        <p:sp>
          <p:nvSpPr>
            <p:cNvPr id="263" name=""/>
            <p:cNvSpPr/>
            <p:nvPr/>
          </p:nvSpPr>
          <p:spPr>
            <a:xfrm>
              <a:off x="6186600" y="3386160"/>
              <a:ext cx="1074600" cy="110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48280" y="366084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8280" y="3940200"/>
              <a:ext cx="11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95720" y="421956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73800" y="394020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73800" y="427536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81720" y="2295720"/>
              <a:ext cx="4680" cy="10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94480" y="2548080"/>
              <a:ext cx="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2560" y="2827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08840" y="310824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400800" y="4492800"/>
              <a:ext cx="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697800" y="449244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956280" y="449244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08200" y="3544920"/>
              <a:ext cx="104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98080" y="3394080"/>
              <a:ext cx="1182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pplicant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6400" y="3684600"/>
              <a:ext cx="1393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ustomer Reque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62640" y="4206960"/>
              <a:ext cx="14342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mployee/Position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79920" y="3646440"/>
              <a:ext cx="1319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94680" y="3983040"/>
              <a:ext cx="693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por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8000" y="5562720"/>
              <a:ext cx="1493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formation 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00320" y="5321520"/>
              <a:ext cx="1653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Office Staf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64840" y="5006880"/>
              <a:ext cx="1681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plies &amp; Equip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06560" y="2209680"/>
              <a:ext cx="165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rsonnel Regul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8880" y="2487600"/>
              <a:ext cx="1420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epartment Poli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64760" y="2768760"/>
              <a:ext cx="1713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ervisor Instru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5880" y="3062160"/>
              <a:ext cx="1539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anning Condi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7840" y="1052640"/>
            <a:ext cx="8248320" cy="4914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9880" y="3476520"/>
            <a:ext cx="202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24400" y="2774880"/>
            <a:ext cx="1935000" cy="1362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22600" y="2795760"/>
            <a:ext cx="168156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y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70360" y="3689280"/>
            <a:ext cx="664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8560" y="3032280"/>
            <a:ext cx="2848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Purchas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765240" y="4252680"/>
            <a:ext cx="19080" cy="136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8400" y="4824360"/>
            <a:ext cx="2697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Account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43360" y="5060880"/>
            <a:ext cx="334440" cy="85680"/>
            <a:chOff x="3843360" y="5060880"/>
            <a:chExt cx="334440" cy="85680"/>
          </a:xfrm>
        </p:grpSpPr>
        <p:sp>
          <p:nvSpPr>
            <p:cNvPr id="298" name=""/>
            <p:cNvSpPr/>
            <p:nvPr/>
          </p:nvSpPr>
          <p:spPr>
            <a:xfrm flipV="1">
              <a:off x="4009680" y="5070240"/>
              <a:ext cx="1681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997080" y="5072040"/>
              <a:ext cx="266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843360" y="5060880"/>
              <a:ext cx="16812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30720" y="1514520"/>
            <a:ext cx="327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400" spc="-1" strike="noStrike">
                <a:solidFill>
                  <a:srgbClr val="c22e00"/>
                </a:solidFill>
                <a:latin typeface="Arial"/>
              </a:rPr>
              <a:t>Company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440" y="1946160"/>
            <a:ext cx="293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6160" rIns="146160" tIns="77760" bIns="777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209680"/>
                <a:tab algn="l" pos="4419720"/>
                <a:tab algn="l" pos="6629400"/>
                <a:tab algn="l" pos="8839080"/>
              </a:tabLst>
            </a:pPr>
            <a:r>
              <a:rPr b="1" lang="en-US" sz="2400" spc="-1" strike="noStrike">
                <a:solidFill>
                  <a:srgbClr val="c22e00"/>
                </a:solidFill>
                <a:latin typeface="Arial"/>
              </a:rPr>
              <a:t>Budget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54520" y="1716120"/>
            <a:ext cx="334800" cy="88560"/>
            <a:chOff x="3854520" y="1716120"/>
            <a:chExt cx="334800" cy="88560"/>
          </a:xfrm>
        </p:grpSpPr>
        <p:sp>
          <p:nvSpPr>
            <p:cNvPr id="304" name=""/>
            <p:cNvSpPr/>
            <p:nvPr/>
          </p:nvSpPr>
          <p:spPr>
            <a:xfrm flipV="1">
              <a:off x="4021200" y="1725120"/>
              <a:ext cx="16812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008240" y="17287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54520" y="1716120"/>
              <a:ext cx="1681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329000" y="2134800"/>
            <a:ext cx="333000" cy="82800"/>
            <a:chOff x="4329000" y="2134800"/>
            <a:chExt cx="333000" cy="82800"/>
          </a:xfrm>
        </p:grpSpPr>
        <p:sp>
          <p:nvSpPr>
            <p:cNvPr id="308" name=""/>
            <p:cNvSpPr/>
            <p:nvPr/>
          </p:nvSpPr>
          <p:spPr>
            <a:xfrm flipV="1">
              <a:off x="4493880" y="2141280"/>
              <a:ext cx="1681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480920" y="2144520"/>
              <a:ext cx="298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329000" y="2134800"/>
              <a:ext cx="1695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527800" y="2825640"/>
            <a:ext cx="2338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8400" bIns="684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1" lang="en-US" sz="2400" spc="-1" strike="noStrike">
                <a:solidFill>
                  <a:srgbClr val="002f8e"/>
                </a:solidFill>
                <a:latin typeface="Arial"/>
              </a:rPr>
              <a:t>Correct led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95760" y="3218040"/>
            <a:ext cx="204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1160" y="3216240"/>
            <a:ext cx="15242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8400" bIns="684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1" lang="en-US" sz="2400" spc="-1" strike="noStrike">
                <a:solidFill>
                  <a:srgbClr val="002f8e"/>
                </a:solidFill>
                <a:latin typeface="Arial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94320" y="3581280"/>
            <a:ext cx="204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11680" y="1379520"/>
            <a:ext cx="0" cy="136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03800" y="1382760"/>
            <a:ext cx="0" cy="13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440" y="-763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composi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3120" y="386712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4160" y="3524400"/>
            <a:ext cx="12315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508720" y="3995280"/>
            <a:ext cx="223200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46960" y="3645000"/>
            <a:ext cx="9403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f8e"/>
                </a:solidFill>
                <a:latin typeface="Arial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5400" y="1123920"/>
            <a:ext cx="8915400" cy="485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9f9f9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0320" y="2022480"/>
            <a:ext cx="1038240" cy="787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8640" y="3147840"/>
            <a:ext cx="1038240" cy="7876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4273560"/>
            <a:ext cx="1039680" cy="787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57680" y="1263600"/>
            <a:ext cx="0" cy="73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21000" y="173052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78440" y="1735200"/>
            <a:ext cx="4680" cy="252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28960" y="1638360"/>
            <a:ext cx="28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35520" y="1649520"/>
            <a:ext cx="272808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rocess guide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18960" y="1201680"/>
            <a:ext cx="291384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Company guide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4600" y="2584440"/>
            <a:ext cx="260460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Invoice guide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43160" y="2068560"/>
            <a:ext cx="1001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10960" y="2597040"/>
            <a:ext cx="399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67040" y="3710160"/>
            <a:ext cx="399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75120" y="3193920"/>
            <a:ext cx="1001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4360" y="4286160"/>
            <a:ext cx="11160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chase to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28880" y="4827600"/>
            <a:ext cx="399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06680" y="3736800"/>
            <a:ext cx="257256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Ledger guide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032520" y="3876480"/>
            <a:ext cx="82440" cy="4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019560" y="3884760"/>
            <a:ext cx="2052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945040" y="3873600"/>
            <a:ext cx="828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332240" y="272556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319280" y="2733840"/>
            <a:ext cx="205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245120" y="272268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954160" y="1366920"/>
            <a:ext cx="828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41560" y="1374840"/>
            <a:ext cx="2088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867040" y="1361880"/>
            <a:ext cx="82440" cy="4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05640" y="1641600"/>
            <a:ext cx="1519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9" y="2"/>
                </a:moveTo>
                <a:arcTo wR="10800" hR="10800" stAng="-5470250" swAng="5408778"/>
                <a:lnTo>
                  <a:pt x="10800" y="10800"/>
                </a:lnTo>
                <a:close/>
              </a:path>
              <a:path fill="none" w="21600" h="21600">
                <a:moveTo>
                  <a:pt x="10579" y="2"/>
                </a:moveTo>
                <a:arcTo wR="10800" hR="10800" stAng="-5470250" swAng="540877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62360" y="1422720"/>
            <a:ext cx="202680" cy="21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092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092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0000" y="1643040"/>
            <a:ext cx="167760" cy="17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00" y="2"/>
                </a:moveTo>
                <a:arcTo wR="10800" hR="10800" stAng="-5463655" swAng="5398800"/>
                <a:lnTo>
                  <a:pt x="10800" y="10800"/>
                </a:lnTo>
                <a:close/>
              </a:path>
              <a:path fill="none" w="21600" h="21600">
                <a:moveTo>
                  <a:pt x="10600" y="2"/>
                </a:moveTo>
                <a:arcTo wR="10800" hR="10800" stAng="-5463655" swAng="53988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5040" y="1743120"/>
            <a:ext cx="810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62440" y="1751040"/>
            <a:ext cx="1872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887560" y="1738440"/>
            <a:ext cx="810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7000" y="2467080"/>
            <a:ext cx="96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4320" y="2144880"/>
            <a:ext cx="2057400" cy="69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6360" bIns="36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Purchas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48760" y="5532480"/>
            <a:ext cx="2545200" cy="38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6360" bIns="36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Account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771640" y="5667480"/>
            <a:ext cx="115920" cy="11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59040" y="5664240"/>
            <a:ext cx="2232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52840" y="5655960"/>
            <a:ext cx="11592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70040" y="2863800"/>
            <a:ext cx="0" cy="291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24040" y="4705200"/>
            <a:ext cx="19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665600" y="394020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5080" y="4710240"/>
            <a:ext cx="8820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7727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77275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16920" y="4542120"/>
            <a:ext cx="14508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75080" y="5452920"/>
            <a:ext cx="132840" cy="11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1816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18165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39880" y="5448240"/>
            <a:ext cx="366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380280" y="5060520"/>
            <a:ext cx="0" cy="3301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37000" y="5312160"/>
            <a:ext cx="120600" cy="11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00320" y="365760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7760" y="3352680"/>
            <a:ext cx="1307880" cy="3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3480" bIns="334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1" lang="en-US" sz="2200" spc="-1" strike="noStrike">
                <a:solidFill>
                  <a:srgbClr val="002f8e"/>
                </a:solidFill>
                <a:latin typeface="Arial"/>
              </a:rPr>
              <a:t>Pay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33880" y="3619440"/>
            <a:ext cx="347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31360" y="3314880"/>
            <a:ext cx="12315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00"/>
                </a:solidFill>
                <a:latin typeface="Arial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17800" y="3726000"/>
            <a:ext cx="0" cy="10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71800" y="4857840"/>
            <a:ext cx="36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6720" y="4667400"/>
            <a:ext cx="172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81760" y="4324320"/>
            <a:ext cx="208944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f8e"/>
                </a:solidFill>
                <a:latin typeface="Arial"/>
              </a:rPr>
              <a:t>Correct led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6480" y="2400480"/>
            <a:ext cx="524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42160" y="2057400"/>
            <a:ext cx="9403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f8e"/>
                </a:solidFill>
                <a:latin typeface="Arial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24200" y="3662280"/>
            <a:ext cx="91440" cy="10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21040" y="4741920"/>
            <a:ext cx="88200" cy="9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composi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Ø As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23440" y="1218960"/>
            <a:ext cx="816300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Federal Information Processing Standards Publication (FIPS PUB) 183-Integrated Definition for Function Modeling (IDEFØ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ublished December 199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63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oD 8020.1-M established that “IDEFØ is the DoD standard methodology used for activity modeling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63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Currently, ANSI Standard Being Develop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557280" y="2495520"/>
            <a:ext cx="7481880" cy="2477880"/>
            <a:chOff x="557280" y="2495520"/>
            <a:chExt cx="7481880" cy="2477880"/>
          </a:xfrm>
        </p:grpSpPr>
        <p:sp>
          <p:nvSpPr>
            <p:cNvPr id="386" name=""/>
            <p:cNvSpPr/>
            <p:nvPr/>
          </p:nvSpPr>
          <p:spPr>
            <a:xfrm>
              <a:off x="6600960" y="2903400"/>
              <a:ext cx="93600" cy="1621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354320" y="3257640"/>
              <a:ext cx="9828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80" y="2624040"/>
              <a:ext cx="77796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346400" y="2509920"/>
              <a:ext cx="9828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73120" y="3249720"/>
              <a:ext cx="968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8440" y="2502000"/>
              <a:ext cx="9360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083040" y="3249720"/>
              <a:ext cx="986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6360" y="2616120"/>
              <a:ext cx="7794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075120" y="2501640"/>
              <a:ext cx="9864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302200" y="3243240"/>
              <a:ext cx="9684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297160" y="2495520"/>
              <a:ext cx="9540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845240" y="3260880"/>
              <a:ext cx="968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8200" y="2627280"/>
              <a:ext cx="77796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837320" y="2513160"/>
              <a:ext cx="9828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064040" y="3252240"/>
              <a:ext cx="9684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059360" y="2504520"/>
              <a:ext cx="93600" cy="13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277320" y="3120840"/>
              <a:ext cx="4896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91320" y="2754360"/>
              <a:ext cx="463680" cy="4348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264360" y="2673000"/>
              <a:ext cx="590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801040" y="3116160"/>
              <a:ext cx="4896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99240" y="2671560"/>
              <a:ext cx="47880" cy="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937640" y="4838400"/>
              <a:ext cx="9864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0960" y="4205160"/>
              <a:ext cx="7776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61560" y="4102200"/>
              <a:ext cx="7776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156800" y="4830480"/>
              <a:ext cx="9684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148880" y="4079880"/>
              <a:ext cx="9360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37640" y="3263400"/>
              <a:ext cx="9864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40960" y="2630520"/>
              <a:ext cx="7776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937640" y="2509920"/>
              <a:ext cx="9864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156800" y="3257640"/>
              <a:ext cx="96840" cy="1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148880" y="2504520"/>
              <a:ext cx="93600" cy="13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973920" y="2836800"/>
              <a:ext cx="281160" cy="190440"/>
              <a:chOff x="6973920" y="2836800"/>
              <a:chExt cx="281160" cy="190440"/>
            </a:xfrm>
          </p:grpSpPr>
          <p:sp>
            <p:nvSpPr>
              <p:cNvPr id="418" name=""/>
              <p:cNvSpPr/>
              <p:nvPr/>
            </p:nvSpPr>
            <p:spPr>
              <a:xfrm>
                <a:off x="6982200" y="2836800"/>
                <a:ext cx="272880" cy="190440"/>
              </a:xfrm>
              <a:custGeom>
                <a:avLst/>
                <a:gdLst/>
                <a:ahLst/>
                <a:rect l="l" t="t" r="r" b="b"/>
                <a:pathLst>
                  <a:path w="172" h="120">
                    <a:moveTo>
                      <a:pt x="171" y="60"/>
                    </a:moveTo>
                    <a:lnTo>
                      <a:pt x="0" y="0"/>
                    </a:lnTo>
                    <a:lnTo>
                      <a:pt x="0" y="119"/>
                    </a:lnTo>
                    <a:lnTo>
                      <a:pt x="171" y="6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73920" y="2843280"/>
                <a:ext cx="20880" cy="1760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301080" y="2900520"/>
              <a:ext cx="677880" cy="61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940800" y="4440240"/>
              <a:ext cx="282600" cy="190440"/>
              <a:chOff x="6940800" y="4440240"/>
              <a:chExt cx="282600" cy="190440"/>
            </a:xfrm>
          </p:grpSpPr>
          <p:sp>
            <p:nvSpPr>
              <p:cNvPr id="422" name=""/>
              <p:cNvSpPr/>
              <p:nvPr/>
            </p:nvSpPr>
            <p:spPr>
              <a:xfrm>
                <a:off x="6948720" y="4440240"/>
                <a:ext cx="274680" cy="190440"/>
              </a:xfrm>
              <a:custGeom>
                <a:avLst/>
                <a:gdLst/>
                <a:ahLst/>
                <a:rect l="l" t="t" r="r" b="b"/>
                <a:pathLst>
                  <a:path w="173" h="120">
                    <a:moveTo>
                      <a:pt x="172" y="60"/>
                    </a:moveTo>
                    <a:lnTo>
                      <a:pt x="0" y="0"/>
                    </a:lnTo>
                    <a:lnTo>
                      <a:pt x="0" y="119"/>
                    </a:lnTo>
                    <a:lnTo>
                      <a:pt x="172" y="6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40800" y="4446720"/>
                <a:ext cx="22320" cy="1760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600960" y="4503600"/>
              <a:ext cx="346320" cy="61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61560" y="2527200"/>
              <a:ext cx="7776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64400" y="2692440"/>
              <a:ext cx="463680" cy="4334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565960" y="2843280"/>
              <a:ext cx="282600" cy="191880"/>
              <a:chOff x="5565960" y="2843280"/>
              <a:chExt cx="282600" cy="191880"/>
            </a:xfrm>
          </p:grpSpPr>
          <p:sp>
            <p:nvSpPr>
              <p:cNvPr id="428" name=""/>
              <p:cNvSpPr/>
              <p:nvPr/>
            </p:nvSpPr>
            <p:spPr>
              <a:xfrm>
                <a:off x="5573880" y="2843280"/>
                <a:ext cx="274680" cy="191880"/>
              </a:xfrm>
              <a:custGeom>
                <a:avLst/>
                <a:gdLst/>
                <a:ahLst/>
                <a:rect l="l" t="t" r="r" b="b"/>
                <a:pathLst>
                  <a:path w="173" h="121">
                    <a:moveTo>
                      <a:pt x="172" y="6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172" y="6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65960" y="2849400"/>
                <a:ext cx="22320" cy="1778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883400" y="2906640"/>
              <a:ext cx="689040" cy="63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135600" y="2833560"/>
              <a:ext cx="984240" cy="190440"/>
              <a:chOff x="3135600" y="2833560"/>
              <a:chExt cx="984240" cy="1904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3837240" y="2833560"/>
                <a:ext cx="282600" cy="190440"/>
                <a:chOff x="3837240" y="2833560"/>
                <a:chExt cx="282600" cy="190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845160" y="2833560"/>
                  <a:ext cx="274680" cy="190440"/>
                </a:xfrm>
                <a:custGeom>
                  <a:avLst/>
                  <a:gdLst/>
                  <a:ahLst/>
                  <a:rect l="l" t="t" r="r" b="b"/>
                  <a:pathLst>
                    <a:path w="173" h="120">
                      <a:moveTo>
                        <a:pt x="172" y="60"/>
                      </a:moveTo>
                      <a:lnTo>
                        <a:pt x="0" y="0"/>
                      </a:lnTo>
                      <a:lnTo>
                        <a:pt x="0" y="119"/>
                      </a:lnTo>
                      <a:lnTo>
                        <a:pt x="172" y="6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837240" y="2840040"/>
                  <a:ext cx="22320" cy="1760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3135600" y="2897280"/>
                <a:ext cx="706320" cy="619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167360" y="2523960"/>
              <a:ext cx="77940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7200" y="2513160"/>
              <a:ext cx="747360" cy="7477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1389240" y="2840040"/>
              <a:ext cx="982800" cy="192240"/>
              <a:chOff x="1389240" y="2840040"/>
              <a:chExt cx="982800" cy="1922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090880" y="2840040"/>
                <a:ext cx="281160" cy="192240"/>
                <a:chOff x="2090880" y="2840040"/>
                <a:chExt cx="281160" cy="1922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098800" y="2840040"/>
                  <a:ext cx="273240" cy="192240"/>
                </a:xfrm>
                <a:custGeom>
                  <a:avLst/>
                  <a:gdLst/>
                  <a:ahLst/>
                  <a:rect l="l" t="t" r="r" b="b"/>
                  <a:pathLst>
                    <a:path w="172" h="121">
                      <a:moveTo>
                        <a:pt x="171" y="60"/>
                      </a:moveTo>
                      <a:lnTo>
                        <a:pt x="0" y="0"/>
                      </a:lnTo>
                      <a:lnTo>
                        <a:pt x="0" y="120"/>
                      </a:lnTo>
                      <a:lnTo>
                        <a:pt x="171" y="6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090880" y="2846520"/>
                  <a:ext cx="20880" cy="1774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1389240" y="2903400"/>
                <a:ext cx="706320" cy="637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678240" y="2521080"/>
              <a:ext cx="777600" cy="7459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47680" y="276120"/>
            <a:ext cx="86439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IDEF3 Captures </a:t>
            </a:r>
            <a:r>
              <a:rPr b="1" lang="en-US" sz="4600" spc="-1" strike="noStrike" u="sng">
                <a:solidFill>
                  <a:srgbClr val="ff0000"/>
                </a:solidFill>
                <a:uFillTx/>
                <a:latin typeface="Times New Roman"/>
              </a:rPr>
              <a:t>How</a:t>
            </a: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 an Enterprise Does What It Do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294760" cy="458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82400" indent="-482400">
              <a:lnSpc>
                <a:spcPct val="15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describe the process view of a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15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describe the OSTN view of a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15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capture timing and decision logic of process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support descriptions at any desired level of detail throug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com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employ the concept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cenario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simplify the structure of complex process flow descri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15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support the capture of multiple view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304920" y="-114480"/>
            <a:ext cx="843912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Why Develop An IDEF3 Process Model?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77880" y="568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Benefits of Process Mod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880" y="1107720"/>
            <a:ext cx="859176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ocument current processes for standardiz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ovide guidelines for new process members to reduce the learning cur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Capture and analyze As-Is proces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esign/redesign process for To-Be scen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est the design of a new process before embarking on an expensive development projec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Precedence Lin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1040" y="1125360"/>
            <a:ext cx="79707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cess 1 will need to be finished before you can do Process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257800" y="2743200"/>
            <a:ext cx="2192400" cy="2035080"/>
            <a:chOff x="5257800" y="2743200"/>
            <a:chExt cx="2192400" cy="203508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5257800" y="2743200"/>
              <a:ext cx="2192400" cy="203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3" name=""/>
            <p:cNvGrpSpPr/>
            <p:nvPr/>
          </p:nvGrpSpPr>
          <p:grpSpPr>
            <a:xfrm>
              <a:off x="5497560" y="2949480"/>
              <a:ext cx="1718640" cy="1133640"/>
              <a:chOff x="5497560" y="2949480"/>
              <a:chExt cx="1718640" cy="1133640"/>
            </a:xfrm>
          </p:grpSpPr>
          <p:sp>
            <p:nvSpPr>
              <p:cNvPr id="454" name=""/>
              <p:cNvSpPr/>
              <p:nvPr/>
            </p:nvSpPr>
            <p:spPr>
              <a:xfrm>
                <a:off x="5497560" y="2949480"/>
                <a:ext cx="1718640" cy="1133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97560" y="3670560"/>
                <a:ext cx="170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18920" y="3675960"/>
                <a:ext cx="0" cy="39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906160" y="304632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59560" y="365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603440" y="2747880"/>
            <a:ext cx="2192400" cy="2035080"/>
            <a:chOff x="1603440" y="2747880"/>
            <a:chExt cx="2192400" cy="2035080"/>
          </a:xfrm>
        </p:grpSpPr>
        <p:pic>
          <p:nvPicPr>
            <p:cNvPr id="460" name="" descr=""/>
            <p:cNvPicPr/>
            <p:nvPr/>
          </p:nvPicPr>
          <p:blipFill>
            <a:blip r:embed="rId3"/>
            <a:stretch/>
          </p:blipFill>
          <p:spPr>
            <a:xfrm>
              <a:off x="1603440" y="2747880"/>
              <a:ext cx="2192400" cy="203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1" name=""/>
            <p:cNvGrpSpPr/>
            <p:nvPr/>
          </p:nvGrpSpPr>
          <p:grpSpPr>
            <a:xfrm>
              <a:off x="1843200" y="2954160"/>
              <a:ext cx="1718640" cy="1133640"/>
              <a:chOff x="1843200" y="2954160"/>
              <a:chExt cx="1718640" cy="1133640"/>
            </a:xfrm>
          </p:grpSpPr>
          <p:sp>
            <p:nvSpPr>
              <p:cNvPr id="462" name=""/>
              <p:cNvSpPr/>
              <p:nvPr/>
            </p:nvSpPr>
            <p:spPr>
              <a:xfrm>
                <a:off x="1843200" y="2954160"/>
                <a:ext cx="1718640" cy="1133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843200" y="3675240"/>
                <a:ext cx="170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64560" y="3680640"/>
                <a:ext cx="0" cy="39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793880" y="2975040"/>
              <a:ext cx="19605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5200" y="3660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809880" y="356220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DEF and B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Process Reengineering (BPR) assists in re-engineering the enterprises and the successful implementation of C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F Methods support BPR activities (e.g.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nowledge acquisition, As-Is analysis, To-Be design, project planning, and implementatio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7280" y="995400"/>
            <a:ext cx="77518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. . .  simply point the reader to some other aspect of the model that needs to be consid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fer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87320" y="2541600"/>
            <a:ext cx="7437600" cy="3735360"/>
            <a:chOff x="787320" y="2541600"/>
            <a:chExt cx="7437600" cy="3735360"/>
          </a:xfrm>
        </p:grpSpPr>
        <p:sp>
          <p:nvSpPr>
            <p:cNvPr id="471" name=""/>
            <p:cNvSpPr/>
            <p:nvPr/>
          </p:nvSpPr>
          <p:spPr>
            <a:xfrm flipH="1">
              <a:off x="2158920" y="5130720"/>
              <a:ext cx="1067040" cy="4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6006960" y="3774960"/>
              <a:ext cx="349560" cy="301680"/>
              <a:chOff x="6006960" y="3774960"/>
              <a:chExt cx="349560" cy="301680"/>
            </a:xfrm>
          </p:grpSpPr>
          <p:sp>
            <p:nvSpPr>
              <p:cNvPr id="473" name=""/>
              <p:cNvSpPr/>
              <p:nvPr/>
            </p:nvSpPr>
            <p:spPr>
              <a:xfrm>
                <a:off x="6006960" y="3774960"/>
                <a:ext cx="3495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08840" y="378468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61120" y="3781440"/>
                <a:ext cx="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043320" y="38070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978280" y="4352760"/>
              <a:ext cx="977760" cy="749160"/>
              <a:chOff x="2978280" y="4352760"/>
              <a:chExt cx="977760" cy="749160"/>
            </a:xfrm>
          </p:grpSpPr>
          <p:sp>
            <p:nvSpPr>
              <p:cNvPr id="478" name=""/>
              <p:cNvSpPr/>
              <p:nvPr/>
            </p:nvSpPr>
            <p:spPr>
              <a:xfrm>
                <a:off x="2978280" y="435276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78280" y="4882680"/>
                <a:ext cx="9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46640" y="4897080"/>
                <a:ext cx="0" cy="20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578480" y="2781360"/>
              <a:ext cx="977760" cy="749160"/>
              <a:chOff x="4578480" y="2781360"/>
              <a:chExt cx="977760" cy="749160"/>
            </a:xfrm>
          </p:grpSpPr>
          <p:sp>
            <p:nvSpPr>
              <p:cNvPr id="482" name=""/>
              <p:cNvSpPr/>
              <p:nvPr/>
            </p:nvSpPr>
            <p:spPr>
              <a:xfrm>
                <a:off x="4578480" y="278136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78480" y="3311640"/>
                <a:ext cx="9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6840" y="3326040"/>
                <a:ext cx="0" cy="20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978280" y="2749680"/>
              <a:ext cx="977760" cy="749160"/>
              <a:chOff x="2978280" y="2749680"/>
              <a:chExt cx="977760" cy="749160"/>
            </a:xfrm>
          </p:grpSpPr>
          <p:sp>
            <p:nvSpPr>
              <p:cNvPr id="486" name=""/>
              <p:cNvSpPr/>
              <p:nvPr/>
            </p:nvSpPr>
            <p:spPr>
              <a:xfrm>
                <a:off x="2978280" y="274968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78280" y="3278160"/>
                <a:ext cx="97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46640" y="3294000"/>
                <a:ext cx="0" cy="20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254320" y="3774960"/>
              <a:ext cx="34920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035840" y="3608280"/>
              <a:ext cx="977760" cy="749520"/>
              <a:chOff x="7035840" y="3608280"/>
              <a:chExt cx="977760" cy="749520"/>
            </a:xfrm>
          </p:grpSpPr>
          <p:sp>
            <p:nvSpPr>
              <p:cNvPr id="491" name=""/>
              <p:cNvSpPr/>
              <p:nvPr/>
            </p:nvSpPr>
            <p:spPr>
              <a:xfrm>
                <a:off x="7035840" y="3608280"/>
                <a:ext cx="977760" cy="74952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35840" y="4138560"/>
                <a:ext cx="9777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504200" y="4154400"/>
                <a:ext cx="0" cy="203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778040" y="390060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438280" y="313344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63840" y="3139920"/>
              <a:ext cx="50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87720" y="3106800"/>
              <a:ext cx="5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8280" y="4089240"/>
              <a:ext cx="0" cy="63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54120" y="472752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68640" y="4743360"/>
              <a:ext cx="221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191280" y="40766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840" y="31240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313056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69120" y="3916440"/>
              <a:ext cx="6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787320" y="3543480"/>
              <a:ext cx="978120" cy="788760"/>
              <a:chOff x="787320" y="3543480"/>
              <a:chExt cx="978120" cy="78876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787320" y="3543480"/>
                <a:ext cx="978120" cy="747360"/>
                <a:chOff x="787320" y="3543480"/>
                <a:chExt cx="978120" cy="747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87320" y="3543480"/>
                  <a:ext cx="978120" cy="747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87320" y="4071600"/>
                  <a:ext cx="97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255680" y="4087440"/>
                  <a:ext cx="0" cy="20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889920" y="4060800"/>
                <a:ext cx="2667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052080" y="327024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42560" y="330372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52080" y="487368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28720" y="414036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98760" y="4200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94560" y="418464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2600" y="3782880"/>
              <a:ext cx="0" cy="285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28480" y="38052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44760" y="313992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4960" y="3106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3187800"/>
              <a:ext cx="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882720" y="2552760"/>
              <a:ext cx="787320" cy="533520"/>
              <a:chOff x="882720" y="2552760"/>
              <a:chExt cx="787320" cy="533520"/>
            </a:xfrm>
          </p:grpSpPr>
          <p:sp>
            <p:nvSpPr>
              <p:cNvPr id="523" name=""/>
              <p:cNvSpPr/>
              <p:nvPr/>
            </p:nvSpPr>
            <p:spPr>
              <a:xfrm>
                <a:off x="882720" y="2552760"/>
                <a:ext cx="787320" cy="533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2720" y="2944800"/>
                <a:ext cx="78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76200" y="3098880"/>
              <a:ext cx="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01880" y="5114880"/>
              <a:ext cx="93996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2400" y="2541600"/>
              <a:ext cx="852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r. Req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49280" y="5319720"/>
              <a:ext cx="1082880" cy="798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9280" y="5972040"/>
              <a:ext cx="1082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498680" y="5329080"/>
              <a:ext cx="17280" cy="627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4168800" y="5560920"/>
              <a:ext cx="1130400" cy="716040"/>
              <a:chOff x="4168800" y="5560920"/>
              <a:chExt cx="1130400" cy="71604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4168800" y="5560920"/>
                <a:ext cx="1130400" cy="716040"/>
                <a:chOff x="4168800" y="5560920"/>
                <a:chExt cx="1130400" cy="7160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168800" y="5560920"/>
                  <a:ext cx="1130400" cy="7160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68800" y="6086520"/>
                  <a:ext cx="1130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4395960" y="5560920"/>
                <a:ext cx="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22800" y="5560920"/>
                <a:ext cx="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1490760" y="5302080"/>
              <a:ext cx="9363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enario /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ing Contracted pa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54560" y="5584680"/>
              <a:ext cx="9208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bject 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cted Pa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4320" y="353844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ceive request for purc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77160" y="3600360"/>
              <a:ext cx="12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are and dispatch purchase 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86400" y="2781360"/>
              <a:ext cx="103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gotiate price with ven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14640" y="4343400"/>
              <a:ext cx="103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ceive request for purc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52800" y="2781360"/>
              <a:ext cx="1031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dentify 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60360" y="25560"/>
            <a:ext cx="8342280" cy="14126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3171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stablish Scenario Objectives: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(Viewpoint, Purpose, and Con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7000" y="1598760"/>
            <a:ext cx="894240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s what can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from w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erspective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ablishes the goal of the communication intended by the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es why the description is being developed, and specifies how it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ablishes the subject of a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ablishes the subject as a part of a larger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9996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s a boundary with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60360" y="25560"/>
            <a:ext cx="8342280" cy="12985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77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compositions: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urchase Ord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6560" y="4149720"/>
            <a:ext cx="821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p-level Scenario: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s-Is Order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73000" y="2036880"/>
            <a:ext cx="7391520" cy="1333080"/>
            <a:chOff x="873000" y="2036880"/>
            <a:chExt cx="7391520" cy="1333080"/>
          </a:xfrm>
        </p:grpSpPr>
        <p:sp>
          <p:nvSpPr>
            <p:cNvPr id="551" name=""/>
            <p:cNvSpPr/>
            <p:nvPr/>
          </p:nvSpPr>
          <p:spPr>
            <a:xfrm>
              <a:off x="1824120" y="2735280"/>
              <a:ext cx="518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878040" y="2049480"/>
              <a:ext cx="1234800" cy="1320480"/>
              <a:chOff x="878040" y="2049480"/>
              <a:chExt cx="1234800" cy="1320480"/>
            </a:xfrm>
          </p:grpSpPr>
          <p:sp>
            <p:nvSpPr>
              <p:cNvPr id="553" name=""/>
              <p:cNvSpPr/>
              <p:nvPr/>
            </p:nvSpPr>
            <p:spPr>
              <a:xfrm>
                <a:off x="895320" y="204948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8040" y="294300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12720" y="2949480"/>
                <a:ext cx="0" cy="42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873000" y="204300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Places 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42840" y="297972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957400" y="2046240"/>
              <a:ext cx="1235160" cy="1320840"/>
              <a:chOff x="2957400" y="2046240"/>
              <a:chExt cx="1235160" cy="1320840"/>
            </a:xfrm>
          </p:grpSpPr>
          <p:sp>
            <p:nvSpPr>
              <p:cNvPr id="559" name=""/>
              <p:cNvSpPr/>
              <p:nvPr/>
            </p:nvSpPr>
            <p:spPr>
              <a:xfrm>
                <a:off x="2975040" y="204624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957400" y="293976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2946240"/>
                <a:ext cx="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2952720" y="203976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 Processes 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22560" y="297648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4984920" y="2046240"/>
              <a:ext cx="1234800" cy="1320840"/>
              <a:chOff x="4984920" y="2046240"/>
              <a:chExt cx="1234800" cy="1320840"/>
            </a:xfrm>
          </p:grpSpPr>
          <p:sp>
            <p:nvSpPr>
              <p:cNvPr id="565" name=""/>
              <p:cNvSpPr/>
              <p:nvPr/>
            </p:nvSpPr>
            <p:spPr>
              <a:xfrm>
                <a:off x="5002200" y="204624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984920" y="293976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19600" y="2946240"/>
                <a:ext cx="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979880" y="203976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. Svc. Transports Materi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49720" y="297648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7029360" y="2043000"/>
              <a:ext cx="1235160" cy="1320840"/>
              <a:chOff x="7029360" y="2043000"/>
              <a:chExt cx="1235160" cy="1320840"/>
            </a:xfrm>
          </p:grpSpPr>
          <p:sp>
            <p:nvSpPr>
              <p:cNvPr id="571" name=""/>
              <p:cNvSpPr/>
              <p:nvPr/>
            </p:nvSpPr>
            <p:spPr>
              <a:xfrm>
                <a:off x="7047000" y="204300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29360" y="29368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64400" y="2943000"/>
                <a:ext cx="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7024680" y="203688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Rec./Dis. Materi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94520" y="297324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0960" y="2735280"/>
              <a:ext cx="40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70560" y="2735280"/>
              <a:ext cx="40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0360" y="25560"/>
            <a:ext cx="8342280" cy="133668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714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compositions: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urchase Ord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98080" y="1789200"/>
            <a:ext cx="8496720" cy="4209120"/>
            <a:chOff x="298080" y="1789200"/>
            <a:chExt cx="8496720" cy="4209120"/>
          </a:xfrm>
        </p:grpSpPr>
        <p:sp>
          <p:nvSpPr>
            <p:cNvPr id="581" name=""/>
            <p:cNvSpPr/>
            <p:nvPr/>
          </p:nvSpPr>
          <p:spPr>
            <a:xfrm>
              <a:off x="1055520" y="3549600"/>
              <a:ext cx="41245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Decomposition: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ustomer Places Or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47800" y="5364000"/>
              <a:ext cx="51879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801720" y="4678200"/>
              <a:ext cx="1235160" cy="1320120"/>
              <a:chOff x="801720" y="4678200"/>
              <a:chExt cx="1235160" cy="1320120"/>
            </a:xfrm>
          </p:grpSpPr>
          <p:sp>
            <p:nvSpPr>
              <p:cNvPr id="584" name=""/>
              <p:cNvSpPr/>
              <p:nvPr/>
            </p:nvSpPr>
            <p:spPr>
              <a:xfrm>
                <a:off x="819000" y="4678200"/>
                <a:ext cx="121788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01720" y="557172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36760" y="5577840"/>
                <a:ext cx="0" cy="42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01720" y="4676760"/>
              <a:ext cx="1217520" cy="9028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6880" y="5608440"/>
              <a:ext cx="53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98720" y="4674960"/>
              <a:ext cx="1217520" cy="13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81440" y="5568840"/>
              <a:ext cx="123480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6480" y="5575320"/>
              <a:ext cx="0" cy="420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4120" y="4635360"/>
              <a:ext cx="15908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ys. Cross      Ref. Part # w/Order     Detai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46240" y="560520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908600" y="4674960"/>
              <a:ext cx="1235160" cy="1320120"/>
              <a:chOff x="4908600" y="4674960"/>
              <a:chExt cx="1235160" cy="1320120"/>
            </a:xfrm>
          </p:grpSpPr>
          <p:sp>
            <p:nvSpPr>
              <p:cNvPr id="595" name=""/>
              <p:cNvSpPr/>
              <p:nvPr/>
            </p:nvSpPr>
            <p:spPr>
              <a:xfrm>
                <a:off x="4925880" y="4674960"/>
                <a:ext cx="121788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908600" y="55684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43640" y="5574960"/>
                <a:ext cx="0" cy="42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08600" y="4673520"/>
              <a:ext cx="1217520" cy="9028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73760" y="5605200"/>
              <a:ext cx="53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6953400" y="4671720"/>
              <a:ext cx="1234800" cy="1320120"/>
              <a:chOff x="6953400" y="4671720"/>
              <a:chExt cx="1234800" cy="1320120"/>
            </a:xfrm>
          </p:grpSpPr>
          <p:sp>
            <p:nvSpPr>
              <p:cNvPr id="601" name=""/>
              <p:cNvSpPr/>
              <p:nvPr/>
            </p:nvSpPr>
            <p:spPr>
              <a:xfrm>
                <a:off x="6970680" y="467172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53400" y="556524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88080" y="5571720"/>
                <a:ext cx="0" cy="42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808680" y="4630680"/>
              <a:ext cx="150840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n Channel/Send File to Target Prin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18200" y="560232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75000" y="5364000"/>
              <a:ext cx="4078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97480" y="5379840"/>
              <a:ext cx="4078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2880" y="4680000"/>
              <a:ext cx="13190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rator Enters Item Descrip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1880" y="4627440"/>
              <a:ext cx="131292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ystem Generates Pick Ticket 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077840" y="1789200"/>
              <a:ext cx="7391520" cy="1332720"/>
              <a:chOff x="1077840" y="1789200"/>
              <a:chExt cx="7391520" cy="1332720"/>
            </a:xfrm>
          </p:grpSpPr>
          <p:sp>
            <p:nvSpPr>
              <p:cNvPr id="611" name=""/>
              <p:cNvSpPr/>
              <p:nvPr/>
            </p:nvSpPr>
            <p:spPr>
              <a:xfrm>
                <a:off x="2028960" y="2487600"/>
                <a:ext cx="518796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1082520" y="1801800"/>
                <a:ext cx="1235160" cy="1320120"/>
                <a:chOff x="1082520" y="1801800"/>
                <a:chExt cx="1235160" cy="1320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100160" y="1801800"/>
                  <a:ext cx="1217520" cy="130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082520" y="2694960"/>
                  <a:ext cx="12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717560" y="2701440"/>
                  <a:ext cx="0" cy="42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1077840" y="1795320"/>
                <a:ext cx="12272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 Places 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7680" y="2732040"/>
                <a:ext cx="53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162240" y="1798560"/>
                <a:ext cx="1235160" cy="1320120"/>
                <a:chOff x="3162240" y="1798560"/>
                <a:chExt cx="1235160" cy="1320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179880" y="1798560"/>
                  <a:ext cx="1217520" cy="130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162240" y="2692080"/>
                  <a:ext cx="12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797280" y="2698200"/>
                  <a:ext cx="0" cy="42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3157560" y="1792080"/>
                <a:ext cx="12272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pplier Processes 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27400" y="2728800"/>
                <a:ext cx="53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5189400" y="1798560"/>
                <a:ext cx="1235160" cy="1320120"/>
                <a:chOff x="5189400" y="1798560"/>
                <a:chExt cx="1235160" cy="1320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207040" y="1798560"/>
                  <a:ext cx="1217520" cy="130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189400" y="2692080"/>
                  <a:ext cx="12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824440" y="2698200"/>
                  <a:ext cx="0" cy="42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5184720" y="1792080"/>
                <a:ext cx="12272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l. Svc. Transports Materia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54560" y="2728800"/>
                <a:ext cx="53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7234200" y="1795320"/>
                <a:ext cx="1235160" cy="1320120"/>
                <a:chOff x="7234200" y="1795320"/>
                <a:chExt cx="1235160" cy="13201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251840" y="1795320"/>
                  <a:ext cx="1217520" cy="130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234200" y="2688840"/>
                  <a:ext cx="123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869240" y="2694960"/>
                  <a:ext cx="0" cy="42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7229520" y="1789200"/>
                <a:ext cx="122724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 Rec./Dis. Materia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99360" y="2725560"/>
                <a:ext cx="53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55800" y="2487600"/>
                <a:ext cx="40824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78280" y="2503440"/>
                <a:ext cx="40824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H="1">
              <a:off x="298080" y="3111480"/>
              <a:ext cx="717480" cy="229176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0160" y="3092400"/>
              <a:ext cx="6254640" cy="145368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259240" y="92160"/>
            <a:ext cx="381024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OSTN 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Dia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8160" y="4201920"/>
            <a:ext cx="8531280" cy="23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ows construction of an object-centered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mmarizes allowable transitions of an object in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cument data life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uts across the process flow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acterizes dynamic behavior of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927000" y="166680"/>
            <a:ext cx="5392800" cy="3976560"/>
            <a:chOff x="927000" y="166680"/>
            <a:chExt cx="5392800" cy="3976560"/>
          </a:xfrm>
        </p:grpSpPr>
        <p:sp>
          <p:nvSpPr>
            <p:cNvPr id="643" name=""/>
            <p:cNvSpPr/>
            <p:nvPr/>
          </p:nvSpPr>
          <p:spPr>
            <a:xfrm flipH="1" flipV="1">
              <a:off x="2886120" y="2075040"/>
              <a:ext cx="28872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263760" y="971280"/>
              <a:ext cx="0" cy="9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025720" y="1653840"/>
              <a:ext cx="0" cy="9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55880" y="3192480"/>
              <a:ext cx="210168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965840" y="2842920"/>
              <a:ext cx="45396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41840" y="1649520"/>
              <a:ext cx="65412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717560" y="1628640"/>
              <a:ext cx="2016360" cy="11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12920" y="174600"/>
              <a:ext cx="1577880" cy="843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4720" y="741240"/>
              <a:ext cx="15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2448000" y="166680"/>
              <a:ext cx="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27000" y="1193760"/>
              <a:ext cx="1578240" cy="84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28800" y="1760400"/>
              <a:ext cx="15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162080" y="1185480"/>
              <a:ext cx="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93800" y="2382840"/>
              <a:ext cx="1578240" cy="843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33640" y="2454120"/>
              <a:ext cx="1193760" cy="500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62520" y="2387520"/>
              <a:ext cx="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28880" y="2374920"/>
              <a:ext cx="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18080" y="934920"/>
              <a:ext cx="1039680" cy="1019160"/>
            </a:xfrm>
            <a:prstGeom prst="ellipse">
              <a:avLst/>
            </a:prstGeom>
            <a:solidFill>
              <a:srgbClr val="f02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94040" y="1187280"/>
              <a:ext cx="911520" cy="554760"/>
            </a:xfrm>
            <a:prstGeom prst="rect">
              <a:avLst/>
            </a:prstGeom>
            <a:solidFill>
              <a:srgbClr val="f0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te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84720" y="1795320"/>
              <a:ext cx="1135080" cy="1094040"/>
            </a:xfrm>
            <a:prstGeom prst="ellipse">
              <a:avLst/>
            </a:prstGeom>
            <a:solidFill>
              <a:srgbClr val="f02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61040" y="2112840"/>
              <a:ext cx="987480" cy="554760"/>
            </a:xfrm>
            <a:prstGeom prst="rect">
              <a:avLst/>
            </a:prstGeom>
            <a:solidFill>
              <a:srgbClr val="f0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te 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60800" y="3106800"/>
              <a:ext cx="1096920" cy="1036440"/>
            </a:xfrm>
            <a:prstGeom prst="ellipse">
              <a:avLst/>
            </a:prstGeom>
            <a:solidFill>
              <a:srgbClr val="f02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30640" y="3348000"/>
              <a:ext cx="999720" cy="554760"/>
            </a:xfrm>
            <a:prstGeom prst="rect">
              <a:avLst/>
            </a:prstGeom>
            <a:solidFill>
              <a:srgbClr val="f0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te 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22400" y="2498760"/>
              <a:ext cx="1058760" cy="998640"/>
            </a:xfrm>
            <a:prstGeom prst="ellipse">
              <a:avLst/>
            </a:prstGeom>
            <a:solidFill>
              <a:srgbClr val="f02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32920" y="2720880"/>
              <a:ext cx="842760" cy="554760"/>
            </a:xfrm>
            <a:prstGeom prst="rect">
              <a:avLst/>
            </a:prstGeom>
            <a:solidFill>
              <a:srgbClr val="f0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05320" y="2803680"/>
              <a:ext cx="138240" cy="1634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65" y="102"/>
                  </a:moveTo>
                  <a:lnTo>
                    <a:pt x="0" y="60"/>
                  </a:lnTo>
                  <a:lnTo>
                    <a:pt x="86" y="0"/>
                  </a:lnTo>
                  <a:lnTo>
                    <a:pt x="65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95280" y="1255680"/>
              <a:ext cx="1193760" cy="500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e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23960" y="227160"/>
              <a:ext cx="1194120" cy="500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S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81280" y="179280"/>
              <a:ext cx="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95600" y="2948040"/>
              <a:ext cx="15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60360" y="25560"/>
            <a:ext cx="8342280" cy="1355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int Shop OSTN: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ocus Object: P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965160" y="1898640"/>
            <a:ext cx="6983280" cy="4311720"/>
            <a:chOff x="965160" y="1898640"/>
            <a:chExt cx="6983280" cy="4311720"/>
          </a:xfrm>
        </p:grpSpPr>
        <p:sp>
          <p:nvSpPr>
            <p:cNvPr id="676" name=""/>
            <p:cNvSpPr/>
            <p:nvPr/>
          </p:nvSpPr>
          <p:spPr>
            <a:xfrm flipH="1" flipV="1">
              <a:off x="6222960" y="3136680"/>
              <a:ext cx="43200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378400" y="4584600"/>
              <a:ext cx="69228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556240" y="2776320"/>
              <a:ext cx="1085760" cy="9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3162240" y="391788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343240" y="2819520"/>
              <a:ext cx="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03760" y="4259160"/>
              <a:ext cx="1032120" cy="68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30360" y="2092320"/>
              <a:ext cx="1577880" cy="84456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31800" y="2658960"/>
              <a:ext cx="15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803240" y="2084040"/>
              <a:ext cx="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89320" y="4424400"/>
              <a:ext cx="1577880" cy="84276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90760" y="4989600"/>
              <a:ext cx="15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57680" y="4429080"/>
              <a:ext cx="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662200" y="4416480"/>
              <a:ext cx="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93960" y="219924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ce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08160" y="3924360"/>
              <a:ext cx="250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19520" y="454068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y 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19520" y="507384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60920" y="3384720"/>
              <a:ext cx="1160280" cy="1099800"/>
            </a:xfrm>
            <a:prstGeom prst="ellipse">
              <a:avLst/>
            </a:prstGeom>
            <a:solidFill>
              <a:srgbClr val="00359e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1720" y="3569040"/>
              <a:ext cx="7459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int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908440" y="2084040"/>
              <a:ext cx="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46960" y="1898640"/>
              <a:ext cx="1160280" cy="1100160"/>
            </a:xfrm>
            <a:prstGeom prst="ellipse">
              <a:avLst/>
            </a:prstGeom>
            <a:solidFill>
              <a:srgbClr val="00359e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04200" y="2064240"/>
              <a:ext cx="1012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ver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ew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70560" y="3397320"/>
              <a:ext cx="1577880" cy="10033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72360" y="4068720"/>
              <a:ext cx="15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38920" y="3403440"/>
              <a:ext cx="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605640" y="337032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24800" y="355500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OB/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58000" y="418788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27640" y="5207040"/>
              <a:ext cx="1577880" cy="100332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29080" y="5878440"/>
              <a:ext cx="15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96000" y="5213520"/>
              <a:ext cx="0" cy="65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662360" y="5200560"/>
              <a:ext cx="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19680" y="536472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OB/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57840" y="597852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19240" y="274968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65160" y="3384720"/>
              <a:ext cx="1160640" cy="1099800"/>
            </a:xfrm>
            <a:prstGeom prst="ellipse">
              <a:avLst/>
            </a:prstGeom>
            <a:solidFill>
              <a:srgbClr val="00359e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40120" y="3569040"/>
              <a:ext cx="777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int 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51560" y="4832280"/>
              <a:ext cx="1160640" cy="1100160"/>
            </a:xfrm>
            <a:prstGeom prst="ellipse">
              <a:avLst/>
            </a:prstGeom>
            <a:solidFill>
              <a:srgbClr val="00359e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08800" y="5016960"/>
              <a:ext cx="1012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ai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ver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99960" y="-200160"/>
            <a:ext cx="777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mparing  IDEFØ and IDEF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" y="1104840"/>
            <a:ext cx="8172360" cy="481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2600" y="1190520"/>
            <a:ext cx="41338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02e00"/>
                </a:solidFill>
                <a:uFillTx/>
                <a:latin typeface="Times New Roman"/>
              </a:rPr>
              <a:t>IDEFØ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do I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ingle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timing or logic in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rget activities that require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67400" y="1266840"/>
            <a:ext cx="396216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02e00"/>
                </a:solidFill>
                <a:uFillTx/>
                <a:latin typeface="Times New Roman"/>
              </a:rPr>
              <a:t>IDEF3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76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w do I do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76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ple view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76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oth time and cause-and-effect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76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mprove specific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IDEF1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43080" y="-190440"/>
            <a:ext cx="7778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 is an IDEF1X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3360" y="1019160"/>
            <a:ext cx="78199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phical/Textual Depiction of the Data Relationships and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siness Rules for an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P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8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Design of Logical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Structures to be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lemented in a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ion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727520" y="1641600"/>
          <a:ext cx="4127400" cy="44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7520" y="1641600"/>
                    <a:ext cx="4127400" cy="4489200"/>
                  </a:xfrm>
                  <a:prstGeom prst="rect">
                    <a:avLst/>
                  </a:prstGeom>
                  <a:ln w="25560">
                    <a:solidFill>
                      <a:srgbClr val="081d58"/>
                    </a:solidFill>
                    <a:miter/>
                  </a:ln>
                  <a:effectLst>
                    <a:outerShdw dist="107932" dir="2700000" blurRad="0" rotWithShape="0">
                      <a:srgbClr val="081d58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730760" y="1598760"/>
            <a:ext cx="401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IDEF1X isn’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modeling real world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designing Object-Oriented databases an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9640" y="1617840"/>
            <a:ext cx="415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IDEF1X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designing relational databases an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As-Is and To-Be data system analysis and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DEF1X Is and Is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152280"/>
            <a:ext cx="819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 are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880" y="1366920"/>
            <a:ext cx="7553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35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Method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 structured approach to capturing knowledge that maximizes accuracy but is also flexible enough to capture the real-world characteristics of that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36960" y="3733920"/>
            <a:ext cx="24969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7360" y="4578480"/>
            <a:ext cx="2444760" cy="151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7360" y="5234040"/>
            <a:ext cx="2425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54680" y="4654440"/>
            <a:ext cx="2406600" cy="1378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54680" y="5234040"/>
            <a:ext cx="23875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397320" y="4000680"/>
            <a:ext cx="19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334040" y="319104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51240" y="3778200"/>
            <a:ext cx="123840" cy="127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247840" y="41652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622760" y="39942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051440" y="39942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247840" y="41590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686640" y="41587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4622760" y="415908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01920" y="1568520"/>
            <a:ext cx="2368800" cy="15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1920" y="2135160"/>
            <a:ext cx="23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68720" y="4616280"/>
            <a:ext cx="2482920" cy="1435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68720" y="5238720"/>
            <a:ext cx="24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4320" y="400680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356280" y="1109520"/>
            <a:ext cx="21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 Item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59800" y="2108160"/>
            <a:ext cx="117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e_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59080" y="2336760"/>
            <a:ext cx="19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ice_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78520" y="2813040"/>
            <a:ext cx="82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58000" y="1517760"/>
            <a:ext cx="196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_number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7840" y="1768320"/>
            <a:ext cx="252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dor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58720" y="2565360"/>
            <a:ext cx="154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ice_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37360" y="4280040"/>
            <a:ext cx="101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ed/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21960" y="429912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due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65880" y="4299120"/>
            <a:ext cx="87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d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9520" y="5326200"/>
            <a:ext cx="1390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82400" y="5289480"/>
            <a:ext cx="192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charge_d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50720" y="5537160"/>
            <a:ext cx="179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_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30920" y="5289480"/>
            <a:ext cx="1681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_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1240" y="4603680"/>
            <a:ext cx="203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62600" y="4622760"/>
            <a:ext cx="203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29480" y="4641840"/>
            <a:ext cx="203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09680" y="4892760"/>
            <a:ext cx="252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dor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61520" y="4873680"/>
            <a:ext cx="252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dor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1440" y="4873680"/>
            <a:ext cx="252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dor_number (F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35480" y="392436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4280" y="3498840"/>
            <a:ext cx="82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Categorization Migration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1X As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23440" y="1218960"/>
            <a:ext cx="816300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Federal Information Processing Standards Publication (FIPS PUB) 184-Integrated Definition for Data Modeling (IDEF1X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ublished December 199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63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oD 8020.1-M established that “IDEF1X is the DoD standard methodology used for data modeling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63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Currently, ANSI standard is being develop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15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Method Comparisons (IDEF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Ø, 1X, and IDEF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800" y="1851120"/>
            <a:ext cx="28321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ha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you 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d to “target” activities that need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model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63640" y="1292400"/>
            <a:ext cx="1019160" cy="39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DEF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05320" y="1295280"/>
            <a:ext cx="1323720" cy="39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DEF1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10040" y="1870200"/>
            <a:ext cx="28191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at you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eed to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ormation Management or Databas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or Data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alysis method (1) /Design method (1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78400" y="1276200"/>
            <a:ext cx="1019160" cy="39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DE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29280" y="1851120"/>
            <a:ext cx="270036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o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you 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cedence and Cause-&amp;-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duce Cyc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descrip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inuing th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F4 Object-Oriente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F5 Ontology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F9 Business Constraint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IDEF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bject-Oriented Design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DEF4: Object-Oriented Design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53800" y="119376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Does “Object-Oriented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3886200"/>
            <a:ext cx="82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viewing a program from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ct-orie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O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perspective, the developer can understand how the program behaves based on how its objects inte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497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8600" y="0"/>
            <a:ext cx="839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y is IDEF4 Necess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Reuse of legacy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6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Improve the quality of OO code produced by novice OO programmer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64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Structured design and relation design methods are not adequate for the design of object-oriented (OO)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447920" y="0"/>
            <a:ext cx="628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tivation for IDEF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dfca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he need for a design tool that allows the use of commercial-off-the-shelf software and the reuse of existing syste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438"/>
              </a:spcBef>
              <a:buClr>
                <a:srgbClr val="00dfca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he need for a design tool for those who will develop object-oriented databases and softw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2438"/>
              </a:spcBef>
              <a:buClr>
                <a:srgbClr val="00dfca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o allow for the expression of domain knowledge in a more natural way (the object-oriented paradig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eatures of IDEF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Views object-oriented design as part of a larger system development frame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Emphasizes object-oriented design process over the graphical syntax, using graphical syntax and diagrams to communicate important design iss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ovides support for “least commitment” strategies for assessing the design impact of the interaction between class inheritance, object composition, functional decomposition, and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he intuitive nature of object-oriented programming makes it easier to produce cod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nefits of IDEF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5638680" y="914400"/>
            <a:ext cx="2286000" cy="19432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457200" y="2971800"/>
            <a:ext cx="7696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nfortunately, the ease with which software is produced also makes it easier to create software of poor design, resulting in systems lacking re-usability, modularity, and maintainability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IDEF4 method is designed to assist in the correct application of this technology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2440" y="-360"/>
            <a:ext cx="691668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 are IDEF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4160" y="1026720"/>
            <a:ext cx="796284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teg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DE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i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5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nowledge Acquisition, Analysis, and Desig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5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nguages that include both graphics (diagrams) an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25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mal procedures for constructing  models or descriptions of a particular aspect of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IDEF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ntology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4191120" y="16765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The IDEF5 method was developed by KBSI to provide a method to assist in creating, modifying, and maintaining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ontologies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—a domain vocabulary complete with a set of precise definitions to enable consistent interpre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0360" y="25560"/>
            <a:ext cx="8342280" cy="1422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5: Ontology Description Captur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341280" y="1752480"/>
            <a:ext cx="38498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57200" y="76320"/>
            <a:ext cx="814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tivation for IDE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rst step in CALS/CE/TQM is knowing what the other fellow is talking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ck of enabling technology for knowledge capture and sharing (the need for capturing alternative levels of abstr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ck of enabling technology for integrated systems (process as well as data integration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ed to support 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Need for Ont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10666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nature of any domain is revealed through three asp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" y="2209680"/>
            <a:ext cx="83217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cc"/>
                </a:solidFill>
                <a:latin typeface="Times New Roman"/>
              </a:rPr>
              <a:t>the vocabulary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sed to discuss the characteristic objects and processes comprised in the dom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cc"/>
                </a:solidFill>
                <a:latin typeface="Times New Roman"/>
              </a:rPr>
              <a:t>rigorous definitions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of the basic terms in that vocabul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characterization of the </a:t>
            </a:r>
            <a:r>
              <a:rPr b="0" i="1" lang="en-US" sz="3000" spc="-1" strike="noStrike">
                <a:solidFill>
                  <a:srgbClr val="3333cc"/>
                </a:solidFill>
                <a:latin typeface="Times New Roman"/>
              </a:rPr>
              <a:t>logical connections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between those term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57200" y="1143000"/>
            <a:ext cx="411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IDEF5 method a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main expe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construct ontologies that address these elements by capturing assertions about real-world objects, their properties, and their interrelationshi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7200" y="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Need for Ont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7512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IDEF5 Concepts: Schematic Langua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5_S_LANG" descr=""/>
          <p:cNvPicPr/>
          <p:nvPr/>
        </p:nvPicPr>
        <p:blipFill>
          <a:blip r:embed="rId1"/>
          <a:stretch/>
        </p:blipFill>
        <p:spPr>
          <a:xfrm>
            <a:off x="1371600" y="927000"/>
            <a:ext cx="58672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541440" y="76320"/>
            <a:ext cx="806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5 Complex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8460000">
            <a:off x="4127040" y="1964520"/>
            <a:ext cx="216000" cy="368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4152600" y="2066760"/>
            <a:ext cx="71100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rot="2340000">
            <a:off x="4476600" y="5098680"/>
            <a:ext cx="216000" cy="368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9260000">
            <a:off x="6140520" y="5187960"/>
            <a:ext cx="216000" cy="3682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489200" y="4730760"/>
            <a:ext cx="54612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21480" y="4654440"/>
            <a:ext cx="59688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29160" y="33210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29160" y="21780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359320" y="2393640"/>
            <a:ext cx="139680" cy="88920"/>
            <a:chOff x="5359320" y="2393640"/>
            <a:chExt cx="139680" cy="88920"/>
          </a:xfrm>
        </p:grpSpPr>
        <p:sp>
          <p:nvSpPr>
            <p:cNvPr id="822" name=""/>
            <p:cNvSpPr/>
            <p:nvPr/>
          </p:nvSpPr>
          <p:spPr>
            <a:xfrm flipV="1">
              <a:off x="5359320" y="239364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35640" y="2406600"/>
              <a:ext cx="633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883040" y="3892680"/>
            <a:ext cx="1054080" cy="977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64080" y="5340240"/>
            <a:ext cx="1054080" cy="97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78680" y="5340240"/>
            <a:ext cx="1054080" cy="97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83040" y="1225440"/>
            <a:ext cx="1054080" cy="97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78080" y="1225440"/>
            <a:ext cx="1054080" cy="97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531440" y="1447920"/>
            <a:ext cx="70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27120" y="14479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97360" y="4214880"/>
            <a:ext cx="121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3000" y="5510160"/>
            <a:ext cx="121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578400" y="5510160"/>
            <a:ext cx="121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78280" y="1378080"/>
            <a:ext cx="1206360" cy="6728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12200" y="152388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on-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826160" y="2673360"/>
            <a:ext cx="1206360" cy="673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35320" y="2819520"/>
            <a:ext cx="80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-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431800" y="16765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2660400" y="1606680"/>
            <a:ext cx="88920" cy="139680"/>
            <a:chOff x="2660400" y="1606680"/>
            <a:chExt cx="88920" cy="139680"/>
          </a:xfrm>
        </p:grpSpPr>
        <p:sp>
          <p:nvSpPr>
            <p:cNvPr id="840" name=""/>
            <p:cNvSpPr/>
            <p:nvPr/>
          </p:nvSpPr>
          <p:spPr>
            <a:xfrm>
              <a:off x="2673360" y="1606680"/>
              <a:ext cx="633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2660400" y="1682640"/>
              <a:ext cx="889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 flipH="1">
            <a:off x="4184640" y="167652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565160" y="1606680"/>
            <a:ext cx="88920" cy="139680"/>
            <a:chOff x="4565160" y="1606680"/>
            <a:chExt cx="88920" cy="139680"/>
          </a:xfrm>
        </p:grpSpPr>
        <p:sp>
          <p:nvSpPr>
            <p:cNvPr id="844" name=""/>
            <p:cNvSpPr/>
            <p:nvPr/>
          </p:nvSpPr>
          <p:spPr>
            <a:xfrm>
              <a:off x="4578480" y="1606680"/>
              <a:ext cx="633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565160" y="1682640"/>
              <a:ext cx="889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359320" y="3536640"/>
            <a:ext cx="139680" cy="88920"/>
            <a:chOff x="5359320" y="3536640"/>
            <a:chExt cx="139680" cy="88920"/>
          </a:xfrm>
        </p:grpSpPr>
        <p:sp>
          <p:nvSpPr>
            <p:cNvPr id="847" name=""/>
            <p:cNvSpPr/>
            <p:nvPr/>
          </p:nvSpPr>
          <p:spPr>
            <a:xfrm flipV="1">
              <a:off x="5359320" y="353664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35640" y="3549600"/>
              <a:ext cx="633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 rot="2700000">
            <a:off x="3968280" y="2298600"/>
            <a:ext cx="8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-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3120000">
            <a:off x="5641200" y="481392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nt-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8660000">
            <a:off x="4054320" y="483480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nt-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licies, rules, conventions, procedures, contracts, agreements, regulations, and societal and physical laws define an enterprise.  These mechanisms forge relationships between people, information, material, and machines to make a system. We call th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siness 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0360" y="25560"/>
            <a:ext cx="8342280" cy="14223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9: Business Constraint Discovery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5529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DEF: The Nex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Times New Roman"/>
              </a:rPr>
              <a:t>Released methods (published method repor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3 -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Process Description Cap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4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Object-Oriented (OO)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4C++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OO Design using the C++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5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Ontology Description Cap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6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Design Rationale Cap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8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Human Systems Interaction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9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usiness-Constraint Disco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F14 -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Network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-152280"/>
            <a:ext cx="819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y IDE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773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35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IDE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IDEF Family of Methods was co-developed by industry and government.  Their purpose is to provide a comprehensive yet flexible framework for describing, analyzing, and evaluating business practices.  They are not proprietary and are supported by international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22384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172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Characteristics of an IDEF Metho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810560" cy="31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75760" indent="-275760">
              <a:spcBef>
                <a:spcPts val="5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Designed to address specific aspects of a problem, or provid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ifferent perspectives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of the sam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5760" indent="-275760">
              <a:spcBef>
                <a:spcPts val="27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Provide an explicit mechanism f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egrating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the results of the application of one IDEF with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5760" indent="-275760">
              <a:spcBef>
                <a:spcPts val="27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Embody the knowledge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practice for the targeted fact collection, analysis, design, or fabrication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5760" indent="-275760">
              <a:spcBef>
                <a:spcPts val="27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Designed to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raise the performanc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of a novice practitioner to that of a more experienced practitio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5760" indent="-275760">
              <a:spcBef>
                <a:spcPts val="275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Enforce formal techniques to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ensur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understandable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576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inuing Evolution of ID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990720"/>
          <a:ext cx="29322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990720"/>
                    <a:ext cx="29322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33520" y="2514600"/>
          <a:ext cx="2886120" cy="16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14600"/>
                    <a:ext cx="28861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934320" y="3429000"/>
          <a:ext cx="177156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429000"/>
                    <a:ext cx="17715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33520" y="990720"/>
            <a:ext cx="4495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Ø Function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1 Information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124080"/>
            <a:ext cx="358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1X Da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724280"/>
            <a:ext cx="7696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3 Process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4 Object-oriented Design/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5 Ontology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F9 Business Constraint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riginal IDEF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iginal plan was for the creation of several Integrated IDEFs from the ICA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initial step was the development of the first 3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unction/Activity Modeling (IDEF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formation Modeling (IDEF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ynamic Modeling (IDEF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5T03:46:08Z</dcterms:created>
  <dc:creator/>
  <dc:description/>
  <dc:language>en-US</dc:language>
  <cp:lastModifiedBy>babbage_giacomo</cp:lastModifiedBy>
  <dcterms:modified xsi:type="dcterms:W3CDTF">2005-03-15T09:10:03Z</dcterms:modified>
  <cp:revision>37</cp:revision>
  <dc:subject>IDEF Methods in BPR for CALS</dc:subject>
  <dc:title>International CALS Expo</dc:title>
</cp:coreProperties>
</file>