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179880"/>
            <a:ext cx="77724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17988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17988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179880"/>
            <a:ext cx="250236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179880"/>
            <a:ext cx="250236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179880"/>
            <a:ext cx="250236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6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6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36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36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146160"/>
            <a:ext cx="906768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36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317988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6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36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317988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179880"/>
            <a:ext cx="77724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3179880"/>
            <a:ext cx="77724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17988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317988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3179880"/>
            <a:ext cx="250236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3179880"/>
            <a:ext cx="250236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3179880"/>
            <a:ext cx="250236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6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36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36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146160"/>
            <a:ext cx="906768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36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17988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36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17988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179880"/>
            <a:ext cx="7772400" cy="17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36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8584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vantGarde Md BT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57240" algn="ctr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vantGarde Md BT"/>
              </a:rPr>
              <a:t>IDEF3</a:t>
            </a:r>
            <a:endParaRPr b="1" lang="en-US" sz="60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057400" y="4571640"/>
            <a:ext cx="640080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s Model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9120" y="1447920"/>
            <a:ext cx="5279760" cy="21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81160" y="1512720"/>
            <a:ext cx="517536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unctio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io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ivit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p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ven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cenario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06600" y="3794040"/>
            <a:ext cx="251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resent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9800" y="4394160"/>
            <a:ext cx="2406600" cy="15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82840" y="4713120"/>
            <a:ext cx="251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-based Lab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9800" y="5378400"/>
            <a:ext cx="2387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26760" y="5524560"/>
            <a:ext cx="926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#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74360" y="5524560"/>
            <a:ext cx="137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F Ref #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19560" y="5384880"/>
            <a:ext cx="0" cy="539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764320" y="3673440"/>
            <a:ext cx="1411200" cy="851040"/>
          </a:xfrm>
          <a:prstGeom prst="line">
            <a:avLst/>
          </a:prstGeom>
          <a:ln w="28440">
            <a:solidFill>
              <a:srgbClr val="114ff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993680" y="3692160"/>
            <a:ext cx="1314360" cy="793800"/>
          </a:xfrm>
          <a:prstGeom prst="line">
            <a:avLst/>
          </a:prstGeom>
          <a:ln w="28440">
            <a:solidFill>
              <a:srgbClr val="114ff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ss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9360" y="6267600"/>
            <a:ext cx="350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Unit of Behavior (UOB) box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976640" y="3276720"/>
            <a:ext cx="2264040" cy="1114200"/>
            <a:chOff x="4976640" y="3276720"/>
            <a:chExt cx="2264040" cy="1114200"/>
          </a:xfrm>
        </p:grpSpPr>
        <p:sp>
          <p:nvSpPr>
            <p:cNvPr id="122" name=""/>
            <p:cNvSpPr/>
            <p:nvPr/>
          </p:nvSpPr>
          <p:spPr>
            <a:xfrm>
              <a:off x="4976640" y="3276720"/>
              <a:ext cx="2102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76640" y="3881520"/>
              <a:ext cx="2102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38640" y="3881520"/>
              <a:ext cx="2102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76640" y="4390920"/>
              <a:ext cx="2102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k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1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temporal, logical, conventional, or natural constraints betwee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5257800"/>
            <a:ext cx="7086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You have to turn on the computer before you can log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edence Link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1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simple temporal precedence between instances of one process type and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nstance of the source process will complete before the paired instance of the destination process can be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44640" y="3835440"/>
            <a:ext cx="3883320" cy="1270080"/>
            <a:chOff x="2744640" y="3835440"/>
            <a:chExt cx="3883320" cy="1270080"/>
          </a:xfrm>
        </p:grpSpPr>
        <p:grpSp>
          <p:nvGrpSpPr>
            <p:cNvPr id="132" name=""/>
            <p:cNvGrpSpPr/>
            <p:nvPr/>
          </p:nvGrpSpPr>
          <p:grpSpPr>
            <a:xfrm>
              <a:off x="2744640" y="3835440"/>
              <a:ext cx="1330200" cy="1225440"/>
              <a:chOff x="2744640" y="3835440"/>
              <a:chExt cx="1330200" cy="1225440"/>
            </a:xfrm>
          </p:grpSpPr>
          <p:sp>
            <p:nvSpPr>
              <p:cNvPr id="133" name=""/>
              <p:cNvSpPr/>
              <p:nvPr/>
            </p:nvSpPr>
            <p:spPr>
              <a:xfrm>
                <a:off x="2744640" y="3835440"/>
                <a:ext cx="1330200" cy="1225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33a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44640" y="4614840"/>
                <a:ext cx="1317600" cy="0"/>
              </a:xfrm>
              <a:prstGeom prst="line">
                <a:avLst/>
              </a:prstGeom>
              <a:ln w="28440">
                <a:solidFill>
                  <a:srgbClr val="033a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25600" y="4620960"/>
                <a:ext cx="0" cy="423720"/>
              </a:xfrm>
              <a:prstGeom prst="line">
                <a:avLst/>
              </a:prstGeom>
              <a:ln w="28440">
                <a:solidFill>
                  <a:srgbClr val="033a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847240" y="470520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97400" y="3835440"/>
              <a:ext cx="133056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33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97400" y="4643280"/>
              <a:ext cx="1317600" cy="0"/>
            </a:xfrm>
            <a:prstGeom prst="line">
              <a:avLst/>
            </a:prstGeom>
            <a:ln w="28440">
              <a:solidFill>
                <a:srgbClr val="033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78360" y="4649760"/>
              <a:ext cx="0" cy="423720"/>
            </a:xfrm>
            <a:prstGeom prst="line">
              <a:avLst/>
            </a:prstGeom>
            <a:ln w="28440">
              <a:solidFill>
                <a:srgbClr val="033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11160" y="471168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2640" y="3870360"/>
              <a:ext cx="11444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urn 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u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60840" y="3935520"/>
              <a:ext cx="79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g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3" name=""/>
            <p:cNvCxnSpPr>
              <a:stCxn id="133" idx="3"/>
              <a:endCxn id="137" idx="1"/>
            </p:cNvCxnSpPr>
            <p:nvPr/>
          </p:nvCxnSpPr>
          <p:spPr>
            <a:xfrm>
              <a:off x="4074840" y="4447800"/>
              <a:ext cx="1222920" cy="1080"/>
            </a:xfrm>
            <a:prstGeom prst="straightConnector1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advTm="10000" p14:dur="2000"/>
    </mc:Choice>
    <mc:Fallback>
      <p:transition spd="slow" advTm="10000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k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17680" y="1784520"/>
            <a:ext cx="598176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edence Link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047600" y="2286000"/>
            <a:ext cx="7377120" cy="2170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69840" y="4906800"/>
            <a:ext cx="7382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The first of the constrained precedence links indicates that any instance of the source UOB </a:t>
            </a:r>
            <a:r>
              <a:rPr b="0" i="1" lang="it-IT" sz="2000" spc="-1" strike="noStrike">
                <a:solidFill>
                  <a:srgbClr val="0000ff"/>
                </a:solidFill>
                <a:latin typeface="Times New Roman"/>
              </a:rPr>
              <a:t>must </a:t>
            </a: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be followed by an instance of the destination UO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edence Link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952640" y="2333520"/>
            <a:ext cx="545616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edence Link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448000" y="2638440"/>
            <a:ext cx="4583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09680" y="5410080"/>
            <a:ext cx="518184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re is an object (Part) that is common to both proces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24720" y="4216320"/>
            <a:ext cx="3190320" cy="964080"/>
            <a:chOff x="3024720" y="4216320"/>
            <a:chExt cx="3190320" cy="964080"/>
          </a:xfrm>
        </p:grpSpPr>
        <p:grpSp>
          <p:nvGrpSpPr>
            <p:cNvPr id="155" name=""/>
            <p:cNvGrpSpPr/>
            <p:nvPr/>
          </p:nvGrpSpPr>
          <p:grpSpPr>
            <a:xfrm>
              <a:off x="4114800" y="4648320"/>
              <a:ext cx="1044360" cy="0"/>
              <a:chOff x="4114800" y="4648320"/>
              <a:chExt cx="1044360" cy="0"/>
            </a:xfrm>
          </p:grpSpPr>
          <p:sp>
            <p:nvSpPr>
              <p:cNvPr id="156" name=""/>
              <p:cNvSpPr/>
              <p:nvPr/>
            </p:nvSpPr>
            <p:spPr>
              <a:xfrm>
                <a:off x="4114800" y="4648320"/>
                <a:ext cx="969840" cy="0"/>
              </a:xfrm>
              <a:prstGeom prst="line">
                <a:avLst/>
              </a:prstGeom>
              <a:ln w="28440">
                <a:solidFill>
                  <a:srgbClr val="114ff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89320" y="4648320"/>
                <a:ext cx="969840" cy="0"/>
              </a:xfrm>
              <a:prstGeom prst="line">
                <a:avLst/>
              </a:prstGeom>
              <a:ln w="28440">
                <a:solidFill>
                  <a:srgbClr val="114ff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046320" y="4222800"/>
              <a:ext cx="1076400" cy="923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33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6320" y="4809960"/>
              <a:ext cx="1065240" cy="0"/>
            </a:xfrm>
            <a:prstGeom prst="line">
              <a:avLst/>
            </a:prstGeom>
            <a:ln w="28440">
              <a:solidFill>
                <a:srgbClr val="033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5480" y="4816440"/>
              <a:ext cx="0" cy="318960"/>
            </a:xfrm>
            <a:prstGeom prst="line">
              <a:avLst/>
            </a:prstGeom>
            <a:ln w="28440">
              <a:solidFill>
                <a:srgbClr val="033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24720" y="4313160"/>
              <a:ext cx="107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int P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34880" y="4840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38640" y="4216320"/>
              <a:ext cx="1076400" cy="92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33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38640" y="4819680"/>
              <a:ext cx="1067040" cy="0"/>
            </a:xfrm>
            <a:prstGeom prst="line">
              <a:avLst/>
            </a:prstGeom>
            <a:ln w="28440">
              <a:solidFill>
                <a:srgbClr val="033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800" y="4826160"/>
              <a:ext cx="0" cy="318960"/>
            </a:xfrm>
            <a:prstGeom prst="line">
              <a:avLst/>
            </a:prstGeom>
            <a:ln w="28440">
              <a:solidFill>
                <a:srgbClr val="033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98760" y="4848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7240" y="4313160"/>
              <a:ext cx="96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y P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bject Flow Link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2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s the participation of an object in two process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the same temporal semantics as a precedence l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k of an Object Flow link does not preclude the existence of an object participation between two proc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advTm="10000" p14:dur="2000"/>
    </mc:Choice>
    <mc:Fallback>
      <p:transition spd="slow" advTm="10000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12720" y="1295280"/>
            <a:ext cx="784548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ly used relational (dashed) link rela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eet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art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ig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uring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verlap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fter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nish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n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22720" y="4827600"/>
            <a:ext cx="638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371680" y="5289480"/>
            <a:ext cx="1361880" cy="317520"/>
            <a:chOff x="2371680" y="5289480"/>
            <a:chExt cx="1361880" cy="317520"/>
          </a:xfrm>
        </p:grpSpPr>
        <p:sp>
          <p:nvSpPr>
            <p:cNvPr id="173" name=""/>
            <p:cNvSpPr/>
            <p:nvPr/>
          </p:nvSpPr>
          <p:spPr>
            <a:xfrm>
              <a:off x="2390760" y="5524560"/>
              <a:ext cx="13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733560" y="5298840"/>
              <a:ext cx="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371680" y="5289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363760" y="5211720"/>
            <a:ext cx="13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68800" y="5211720"/>
            <a:ext cx="1349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54760" y="5802480"/>
            <a:ext cx="13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68640" y="5805360"/>
            <a:ext cx="13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067360" y="5289480"/>
            <a:ext cx="1361880" cy="317520"/>
            <a:chOff x="5067360" y="5289480"/>
            <a:chExt cx="1361880" cy="317520"/>
          </a:xfrm>
        </p:grpSpPr>
        <p:sp>
          <p:nvSpPr>
            <p:cNvPr id="181" name=""/>
            <p:cNvSpPr/>
            <p:nvPr/>
          </p:nvSpPr>
          <p:spPr>
            <a:xfrm>
              <a:off x="5086080" y="5524560"/>
              <a:ext cx="133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429240" y="5298840"/>
              <a:ext cx="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067360" y="5289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067200" y="5889600"/>
            <a:ext cx="1361880" cy="317520"/>
            <a:chOff x="3067200" y="5889600"/>
            <a:chExt cx="1361880" cy="317520"/>
          </a:xfrm>
        </p:grpSpPr>
        <p:sp>
          <p:nvSpPr>
            <p:cNvPr id="185" name=""/>
            <p:cNvSpPr/>
            <p:nvPr/>
          </p:nvSpPr>
          <p:spPr>
            <a:xfrm>
              <a:off x="3085920" y="6124680"/>
              <a:ext cx="133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429080" y="5898960"/>
              <a:ext cx="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067200" y="5889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952960" y="5889600"/>
            <a:ext cx="1362240" cy="317520"/>
            <a:chOff x="5952960" y="5889600"/>
            <a:chExt cx="1362240" cy="317520"/>
          </a:xfrm>
        </p:grpSpPr>
        <p:sp>
          <p:nvSpPr>
            <p:cNvPr id="189" name=""/>
            <p:cNvSpPr/>
            <p:nvPr/>
          </p:nvSpPr>
          <p:spPr>
            <a:xfrm>
              <a:off x="5972040" y="6124680"/>
              <a:ext cx="13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315200" y="5898960"/>
              <a:ext cx="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952960" y="5889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ational Link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556000" y="3581280"/>
            <a:ext cx="3941640" cy="1249560"/>
            <a:chOff x="2556000" y="3581280"/>
            <a:chExt cx="3941640" cy="1249560"/>
          </a:xfrm>
        </p:grpSpPr>
        <p:sp>
          <p:nvSpPr>
            <p:cNvPr id="194" name=""/>
            <p:cNvSpPr/>
            <p:nvPr/>
          </p:nvSpPr>
          <p:spPr>
            <a:xfrm>
              <a:off x="3403440" y="4205160"/>
              <a:ext cx="1617840" cy="0"/>
            </a:xfrm>
            <a:prstGeom prst="line">
              <a:avLst/>
            </a:prstGeom>
            <a:ln w="28440">
              <a:solidFill>
                <a:srgbClr val="114ff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8960" y="4160880"/>
              <a:ext cx="117720" cy="92160"/>
            </a:xfrm>
            <a:custGeom>
              <a:avLst/>
              <a:gdLst/>
              <a:ahLst/>
              <a:rect l="l" t="t" r="r" b="b"/>
              <a:pathLst>
                <a:path w="74" h="58">
                  <a:moveTo>
                    <a:pt x="2" y="57"/>
                  </a:moveTo>
                  <a:lnTo>
                    <a:pt x="0" y="0"/>
                  </a:lnTo>
                  <a:lnTo>
                    <a:pt x="73" y="27"/>
                  </a:lnTo>
                  <a:lnTo>
                    <a:pt x="2" y="57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157720" y="3587760"/>
              <a:ext cx="1339920" cy="1236600"/>
              <a:chOff x="5157720" y="3587760"/>
              <a:chExt cx="1339920" cy="1236600"/>
            </a:xfrm>
          </p:grpSpPr>
          <p:sp>
            <p:nvSpPr>
              <p:cNvPr id="197" name=""/>
              <p:cNvSpPr/>
              <p:nvPr/>
            </p:nvSpPr>
            <p:spPr>
              <a:xfrm>
                <a:off x="5157720" y="3587760"/>
                <a:ext cx="1339920" cy="1230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33a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57720" y="4390920"/>
                <a:ext cx="1327320" cy="0"/>
              </a:xfrm>
              <a:prstGeom prst="line">
                <a:avLst/>
              </a:prstGeom>
              <a:ln w="28440">
                <a:solidFill>
                  <a:srgbClr val="033a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640480" y="4397400"/>
                <a:ext cx="0" cy="426960"/>
              </a:xfrm>
              <a:prstGeom prst="line">
                <a:avLst/>
              </a:prstGeom>
              <a:ln w="28440">
                <a:solidFill>
                  <a:srgbClr val="033a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70320" y="3757680"/>
                <a:ext cx="1248120" cy="39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tivity 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61760" y="4403880"/>
                <a:ext cx="309600" cy="39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556000" y="3581280"/>
              <a:ext cx="1339560" cy="1249560"/>
              <a:chOff x="2556000" y="3581280"/>
              <a:chExt cx="1339560" cy="1249560"/>
            </a:xfrm>
          </p:grpSpPr>
          <p:sp>
            <p:nvSpPr>
              <p:cNvPr id="203" name=""/>
              <p:cNvSpPr/>
              <p:nvPr/>
            </p:nvSpPr>
            <p:spPr>
              <a:xfrm>
                <a:off x="2556000" y="3581280"/>
                <a:ext cx="1339560" cy="124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33a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56000" y="4376880"/>
                <a:ext cx="1328760" cy="0"/>
              </a:xfrm>
              <a:prstGeom prst="line">
                <a:avLst/>
              </a:prstGeom>
              <a:ln w="28440">
                <a:solidFill>
                  <a:srgbClr val="033a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77600" y="3760920"/>
                <a:ext cx="1263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tivity 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56800" y="4413240"/>
                <a:ext cx="309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057480" y="4390920"/>
                <a:ext cx="0" cy="427320"/>
              </a:xfrm>
              <a:prstGeom prst="line">
                <a:avLst/>
              </a:prstGeom>
              <a:ln w="28440">
                <a:solidFill>
                  <a:srgbClr val="033a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branching Proces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39760" y="1287360"/>
            <a:ext cx="8827920" cy="2102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010040" y="4113360"/>
            <a:ext cx="50576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a Process Model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14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y put, the Process Model is the way that work is divided in a value delivery system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es B. Swar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33948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presentation of a process and its related components presented in a time-dependent fash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33948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logic that may exist within the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advTm="6000" p14:dur="2000"/>
    </mc:Choice>
    <mc:Fallback>
      <p:transition spd="slow" advTm="6000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558720" y="2971800"/>
            <a:ext cx="7861320" cy="2494080"/>
            <a:chOff x="558720" y="2971800"/>
            <a:chExt cx="7861320" cy="2494080"/>
          </a:xfrm>
        </p:grpSpPr>
        <p:sp>
          <p:nvSpPr>
            <p:cNvPr id="212" name=""/>
            <p:cNvSpPr/>
            <p:nvPr/>
          </p:nvSpPr>
          <p:spPr>
            <a:xfrm>
              <a:off x="2835360" y="4892760"/>
              <a:ext cx="331128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63800" y="3459240"/>
              <a:ext cx="3254400" cy="468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16160" y="4248000"/>
              <a:ext cx="527040" cy="3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6699240" y="4254120"/>
              <a:ext cx="449280" cy="176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65600" y="3421080"/>
              <a:ext cx="10152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1" y="45"/>
                  </a:moveTo>
                  <a:lnTo>
                    <a:pt x="0" y="0"/>
                  </a:lnTo>
                  <a:lnTo>
                    <a:pt x="63" y="21"/>
                  </a:lnTo>
                  <a:lnTo>
                    <a:pt x="1" y="45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64040" y="2989440"/>
              <a:ext cx="1141200" cy="981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64040" y="3605040"/>
              <a:ext cx="1131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6600" y="3611520"/>
              <a:ext cx="0" cy="338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37840" y="360216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57760" y="2971800"/>
              <a:ext cx="1143000" cy="984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57760" y="3614760"/>
              <a:ext cx="1131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70320" y="3621240"/>
              <a:ext cx="0" cy="338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41960" y="3065400"/>
              <a:ext cx="13924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Fan-in jun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04560" y="360684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59000" y="4444920"/>
              <a:ext cx="1141560" cy="981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59000" y="5070600"/>
              <a:ext cx="1131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71920" y="5076720"/>
              <a:ext cx="0" cy="338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95000" y="506268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53080" y="4437000"/>
              <a:ext cx="1143000" cy="984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53080" y="5079960"/>
              <a:ext cx="1131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65640" y="5086440"/>
              <a:ext cx="0" cy="338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12480" y="507204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77040" y="3710160"/>
              <a:ext cx="1143000" cy="984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77040" y="4338720"/>
              <a:ext cx="1131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89960" y="4344840"/>
              <a:ext cx="0" cy="338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62000" y="435780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5720" y="4251240"/>
              <a:ext cx="145728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63800" y="4216320"/>
              <a:ext cx="10152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1" y="45"/>
                  </a:moveTo>
                  <a:lnTo>
                    <a:pt x="0" y="0"/>
                  </a:lnTo>
                  <a:lnTo>
                    <a:pt x="63" y="21"/>
                  </a:lnTo>
                  <a:lnTo>
                    <a:pt x="1" y="45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8720" y="3713040"/>
              <a:ext cx="1143000" cy="984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8720" y="4356000"/>
              <a:ext cx="1131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71640" y="4362480"/>
              <a:ext cx="0" cy="338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5880" y="436104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73240" y="3994200"/>
              <a:ext cx="426960" cy="530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48400" y="4003560"/>
              <a:ext cx="426960" cy="530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62880" y="4005360"/>
              <a:ext cx="0" cy="528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6800" y="4003560"/>
              <a:ext cx="0" cy="520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56040" y="3430440"/>
              <a:ext cx="10152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1" y="45"/>
                  </a:moveTo>
                  <a:lnTo>
                    <a:pt x="0" y="0"/>
                  </a:lnTo>
                  <a:lnTo>
                    <a:pt x="63" y="21"/>
                  </a:lnTo>
                  <a:lnTo>
                    <a:pt x="1" y="45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65520" y="3467160"/>
              <a:ext cx="1580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1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1254"/>
                </a:path>
              </a:pathLst>
            </a:custGeom>
            <a:noFill/>
            <a:ln cap="rnd"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0800000">
              <a:off x="2752560" y="4640760"/>
              <a:ext cx="15840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84" y="2"/>
                  </a:moveTo>
                  <a:arcTo wR="10800" hR="10800" stAng="-5468746" swAng="54687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84" y="2"/>
                  </a:moveTo>
                  <a:arcTo wR="10800" hR="10800" stAng="-5468746" swAng="5468746"/>
                </a:path>
              </a:pathLst>
            </a:custGeom>
            <a:noFill/>
            <a:ln cap="rnd"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57600" y="3581280"/>
              <a:ext cx="0" cy="11574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0800000">
              <a:off x="6096600" y="4650120"/>
              <a:ext cx="1580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1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1254"/>
                </a:path>
              </a:pathLst>
            </a:custGeom>
            <a:noFill/>
            <a:ln cap="rnd"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79960" y="3471840"/>
              <a:ext cx="2728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4" y="1"/>
                  </a:moveTo>
                  <a:arcTo wR="10800" hR="10800" stAng="-5439972" swAng="543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4" y="1"/>
                  </a:moveTo>
                  <a:arcTo wR="10800" hR="10800" stAng="-5439972" swAng="5439972"/>
                </a:path>
              </a:pathLst>
            </a:custGeom>
            <a:noFill/>
            <a:ln cap="rnd"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6253200" y="3598560"/>
              <a:ext cx="0" cy="11984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6241680" y="4265640"/>
              <a:ext cx="274680" cy="144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60600" y="3065400"/>
              <a:ext cx="13539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Fan-out jun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66760" y="4757760"/>
              <a:ext cx="452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41920" y="4756320"/>
              <a:ext cx="452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65400" y="4859280"/>
              <a:ext cx="10152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1" y="45"/>
                  </a:moveTo>
                  <a:lnTo>
                    <a:pt x="0" y="0"/>
                  </a:lnTo>
                  <a:lnTo>
                    <a:pt x="63" y="21"/>
                  </a:lnTo>
                  <a:lnTo>
                    <a:pt x="1" y="45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32480" y="4235400"/>
              <a:ext cx="10152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1" y="0"/>
                  </a:moveTo>
                  <a:lnTo>
                    <a:pt x="0" y="45"/>
                  </a:lnTo>
                  <a:lnTo>
                    <a:pt x="63" y="24"/>
                  </a:lnTo>
                  <a:lnTo>
                    <a:pt x="1" y="0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47080" y="4235400"/>
              <a:ext cx="10152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1" y="0"/>
                  </a:moveTo>
                  <a:lnTo>
                    <a:pt x="0" y="45"/>
                  </a:lnTo>
                  <a:lnTo>
                    <a:pt x="63" y="24"/>
                  </a:lnTo>
                  <a:lnTo>
                    <a:pt x="1" y="0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51200" y="4854600"/>
              <a:ext cx="10188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1" y="45"/>
                  </a:moveTo>
                  <a:lnTo>
                    <a:pt x="0" y="0"/>
                  </a:lnTo>
                  <a:lnTo>
                    <a:pt x="63" y="21"/>
                  </a:lnTo>
                  <a:lnTo>
                    <a:pt x="1" y="45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unction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F3 junctions show convergence or divergence of multiple process flows and their ti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unction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2235240" y="1771560"/>
            <a:ext cx="508140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87280" y="1600200"/>
            <a:ext cx="3245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ynchronous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All preceding (or following) actions must complete (or start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7680" y="1611360"/>
            <a:ext cx="583920" cy="584280"/>
            <a:chOff x="517680" y="1611360"/>
            <a:chExt cx="583920" cy="584280"/>
          </a:xfrm>
        </p:grpSpPr>
        <p:sp>
          <p:nvSpPr>
            <p:cNvPr id="269" name=""/>
            <p:cNvSpPr/>
            <p:nvPr/>
          </p:nvSpPr>
          <p:spPr>
            <a:xfrm>
              <a:off x="517680" y="1611360"/>
              <a:ext cx="583920" cy="584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7360" y="1611360"/>
              <a:ext cx="0" cy="584280"/>
            </a:xfrm>
            <a:prstGeom prst="line">
              <a:avLst/>
            </a:prstGeom>
            <a:ln w="2844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28640" y="174312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417920" y="1611360"/>
            <a:ext cx="497160" cy="584280"/>
            <a:chOff x="4417920" y="1611360"/>
            <a:chExt cx="497160" cy="584280"/>
          </a:xfrm>
        </p:grpSpPr>
        <p:sp>
          <p:nvSpPr>
            <p:cNvPr id="273" name=""/>
            <p:cNvSpPr/>
            <p:nvPr/>
          </p:nvSpPr>
          <p:spPr>
            <a:xfrm>
              <a:off x="4417920" y="1611360"/>
              <a:ext cx="497160" cy="584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35640" y="1611360"/>
              <a:ext cx="0" cy="58428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95920" y="1611360"/>
              <a:ext cx="0" cy="58428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502160" y="1739880"/>
            <a:ext cx="37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5640" y="1600200"/>
            <a:ext cx="3749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chronous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All preceding (or following) actions must complete (or start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multaneous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3130560"/>
            <a:ext cx="3203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ynchronous 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One or more of the preceding (or following) will complete (or start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5640" y="3130560"/>
            <a:ext cx="3208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chronous 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One or more of the preceding (or following) will complete (or start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multaneous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456080" y="3154320"/>
            <a:ext cx="501840" cy="584280"/>
            <a:chOff x="4456080" y="3154320"/>
            <a:chExt cx="501840" cy="584280"/>
          </a:xfrm>
        </p:grpSpPr>
        <p:sp>
          <p:nvSpPr>
            <p:cNvPr id="281" name=""/>
            <p:cNvSpPr/>
            <p:nvPr/>
          </p:nvSpPr>
          <p:spPr>
            <a:xfrm>
              <a:off x="4456080" y="3154320"/>
              <a:ext cx="501840" cy="584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5240" y="3154320"/>
              <a:ext cx="0" cy="584280"/>
            </a:xfrm>
            <a:prstGeom prst="line">
              <a:avLst/>
            </a:prstGeom>
            <a:ln w="2844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38760" y="3154320"/>
              <a:ext cx="0" cy="584280"/>
            </a:xfrm>
            <a:prstGeom prst="line">
              <a:avLst/>
            </a:prstGeom>
            <a:ln w="2844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519440" y="3271680"/>
            <a:ext cx="327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22360" y="3168720"/>
            <a:ext cx="584280" cy="584280"/>
            <a:chOff x="522360" y="3168720"/>
            <a:chExt cx="584280" cy="584280"/>
          </a:xfrm>
        </p:grpSpPr>
        <p:sp>
          <p:nvSpPr>
            <p:cNvPr id="286" name=""/>
            <p:cNvSpPr/>
            <p:nvPr/>
          </p:nvSpPr>
          <p:spPr>
            <a:xfrm>
              <a:off x="522360" y="3168720"/>
              <a:ext cx="584280" cy="584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2040" y="3168720"/>
              <a:ext cx="0" cy="584280"/>
            </a:xfrm>
            <a:prstGeom prst="line">
              <a:avLst/>
            </a:prstGeom>
            <a:ln w="2844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46920" y="3244680"/>
            <a:ext cx="37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649600" y="4778280"/>
            <a:ext cx="568440" cy="584280"/>
            <a:chOff x="2649600" y="4778280"/>
            <a:chExt cx="568440" cy="584280"/>
          </a:xfrm>
        </p:grpSpPr>
        <p:sp>
          <p:nvSpPr>
            <p:cNvPr id="290" name=""/>
            <p:cNvSpPr/>
            <p:nvPr/>
          </p:nvSpPr>
          <p:spPr>
            <a:xfrm>
              <a:off x="2649600" y="4778280"/>
              <a:ext cx="568440" cy="584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84600" y="4778280"/>
              <a:ext cx="0" cy="584280"/>
            </a:xfrm>
            <a:prstGeom prst="line">
              <a:avLst/>
            </a:prstGeom>
            <a:ln w="2844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819520" y="488808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4683240"/>
            <a:ext cx="3490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lusive 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Exactly one of the preceding (or following) will complete (or start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unction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unction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844200" y="1063800"/>
            <a:ext cx="7383960" cy="5260680"/>
            <a:chOff x="844200" y="1063800"/>
            <a:chExt cx="7383960" cy="5260680"/>
          </a:xfrm>
        </p:grpSpPr>
        <p:sp>
          <p:nvSpPr>
            <p:cNvPr id="297" name=""/>
            <p:cNvSpPr/>
            <p:nvPr/>
          </p:nvSpPr>
          <p:spPr>
            <a:xfrm>
              <a:off x="4697280" y="1438200"/>
              <a:ext cx="0" cy="54288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73280" y="1063800"/>
              <a:ext cx="2419560" cy="52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73520" y="1112760"/>
              <a:ext cx="1770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unc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0200" y="1987560"/>
              <a:ext cx="328140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38400" y="1994040"/>
              <a:ext cx="0" cy="363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27720" y="1994040"/>
              <a:ext cx="0" cy="363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64560" y="2322360"/>
              <a:ext cx="87624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an-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65680" y="2322360"/>
              <a:ext cx="100440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an-o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77880" y="3021120"/>
              <a:ext cx="607068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25800" y="2727360"/>
              <a:ext cx="0" cy="28728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7720" y="2727360"/>
              <a:ext cx="0" cy="28728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71760" y="3048120"/>
              <a:ext cx="0" cy="34128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4200" y="3389400"/>
              <a:ext cx="113868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OR (X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31200" y="3389400"/>
              <a:ext cx="116748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(&amp;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18200" y="3389400"/>
              <a:ext cx="95400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 (O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63720" y="4311720"/>
              <a:ext cx="151632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ynchrono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70000" y="4300560"/>
              <a:ext cx="1658160" cy="39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synchrono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935520" y="3832200"/>
              <a:ext cx="3713040" cy="61596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61160" y="3828960"/>
              <a:ext cx="0" cy="4968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43000" y="3876840"/>
              <a:ext cx="576360" cy="620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3600" y="3871800"/>
              <a:ext cx="0" cy="622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92040" y="39765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13000" y="4786200"/>
              <a:ext cx="584280" cy="622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17760" y="479592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22440" y="4898880"/>
              <a:ext cx="316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3040" y="479592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20920" y="5688000"/>
              <a:ext cx="576360" cy="620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17760" y="5699160"/>
              <a:ext cx="0" cy="606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30360" y="5789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13040" y="5688000"/>
              <a:ext cx="0" cy="617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174840" y="3619440"/>
              <a:ext cx="766800" cy="7002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41880" y="3638520"/>
              <a:ext cx="1405080" cy="7002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81360" y="3044880"/>
              <a:ext cx="0" cy="34128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48560" y="3048120"/>
              <a:ext cx="0" cy="34128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45280" y="4802040"/>
              <a:ext cx="584280" cy="622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50040" y="481176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54720" y="4915080"/>
              <a:ext cx="316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3200" y="5703840"/>
              <a:ext cx="576360" cy="620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50040" y="5715000"/>
              <a:ext cx="0" cy="606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62640" y="58053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11360" y="1762200"/>
            <a:ext cx="287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Junction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49560" y="1785960"/>
            <a:ext cx="443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M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72160" y="2370240"/>
            <a:ext cx="5018760" cy="26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succeeding process paths will eventually start,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rocesses on each path will eventually happ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succeeding process paths will start together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l processes on each path will eventually happ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or more of the following process paths will eventuall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, and all of the processes on these paths will happ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will be a synchronized initiation of one or mo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 path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ctly one of the following process paths will 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itiated, and only the processes on that path will happ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99880" y="2376360"/>
            <a:ext cx="254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nchronous “AND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74320" y="2871720"/>
            <a:ext cx="241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chronous “AND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73960" y="3430440"/>
            <a:ext cx="236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nchronous “O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73960" y="3938760"/>
            <a:ext cx="224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chronous “O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74320" y="4459320"/>
            <a:ext cx="1153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O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506600" y="4925880"/>
            <a:ext cx="2070000" cy="1384560"/>
            <a:chOff x="1506600" y="4925880"/>
            <a:chExt cx="2070000" cy="1384560"/>
          </a:xfrm>
        </p:grpSpPr>
        <p:sp>
          <p:nvSpPr>
            <p:cNvPr id="346" name=""/>
            <p:cNvSpPr/>
            <p:nvPr/>
          </p:nvSpPr>
          <p:spPr>
            <a:xfrm>
              <a:off x="2349360" y="5195880"/>
              <a:ext cx="114948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30280" y="6014880"/>
              <a:ext cx="114948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11440" y="5173560"/>
              <a:ext cx="65160" cy="41400"/>
            </a:xfrm>
            <a:custGeom>
              <a:avLst/>
              <a:gdLst/>
              <a:ahLst/>
              <a:rect l="l" t="t" r="r" b="b"/>
              <a:pathLst>
                <a:path w="41" h="26">
                  <a:moveTo>
                    <a:pt x="1" y="25"/>
                  </a:moveTo>
                  <a:lnTo>
                    <a:pt x="0" y="0"/>
                  </a:lnTo>
                  <a:lnTo>
                    <a:pt x="40" y="12"/>
                  </a:lnTo>
                  <a:lnTo>
                    <a:pt x="1" y="25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48080" y="4925880"/>
              <a:ext cx="736560" cy="55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48080" y="5278320"/>
              <a:ext cx="7300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11600" y="5284800"/>
              <a:ext cx="0" cy="187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68600" y="5997600"/>
              <a:ext cx="68400" cy="4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1" y="26"/>
                  </a:moveTo>
                  <a:lnTo>
                    <a:pt x="0" y="0"/>
                  </a:lnTo>
                  <a:lnTo>
                    <a:pt x="42" y="12"/>
                  </a:lnTo>
                  <a:lnTo>
                    <a:pt x="1" y="26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41600" y="5757840"/>
              <a:ext cx="741240" cy="55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41600" y="6130800"/>
              <a:ext cx="735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09800" y="6118200"/>
              <a:ext cx="0" cy="187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75000" y="5168880"/>
              <a:ext cx="65160" cy="428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1" y="26"/>
                  </a:moveTo>
                  <a:lnTo>
                    <a:pt x="0" y="0"/>
                  </a:lnTo>
                  <a:lnTo>
                    <a:pt x="40" y="12"/>
                  </a:lnTo>
                  <a:lnTo>
                    <a:pt x="1" y="26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86000" y="5205240"/>
              <a:ext cx="10116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79" swAng="5211062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79" swAng="5211062"/>
                </a:path>
              </a:pathLst>
            </a:custGeom>
            <a:noFill/>
            <a:ln cap="rnd"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0800000">
              <a:off x="2279520" y="5870880"/>
              <a:ext cx="97920" cy="13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61" y="5"/>
                  </a:moveTo>
                  <a:arcTo wR="10800" hR="10800" stAng="-5507831" swAng="54256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61" y="5"/>
                  </a:moveTo>
                  <a:arcTo wR="10800" hR="10800" stAng="-5507831" swAng="5425654"/>
                </a:path>
              </a:pathLst>
            </a:custGeom>
            <a:noFill/>
            <a:ln cap="rnd"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59160" y="5999040"/>
              <a:ext cx="68040" cy="4140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1" y="25"/>
                  </a:moveTo>
                  <a:lnTo>
                    <a:pt x="0" y="0"/>
                  </a:lnTo>
                  <a:lnTo>
                    <a:pt x="42" y="12"/>
                  </a:lnTo>
                  <a:lnTo>
                    <a:pt x="1" y="25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278080" y="5270400"/>
              <a:ext cx="7920" cy="6588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06600" y="5648400"/>
              <a:ext cx="76356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05120" y="55101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35280" y="5500800"/>
              <a:ext cx="272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5120" y="5497560"/>
              <a:ext cx="0" cy="291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63640" y="5635800"/>
              <a:ext cx="68400" cy="4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1" y="26"/>
                  </a:moveTo>
                  <a:lnTo>
                    <a:pt x="0" y="0"/>
                  </a:lnTo>
                  <a:lnTo>
                    <a:pt x="42" y="12"/>
                  </a:lnTo>
                  <a:lnTo>
                    <a:pt x="1" y="26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693720" y="3430440"/>
            <a:ext cx="4636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73280" y="3441600"/>
            <a:ext cx="0" cy="33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57160" y="3433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93720" y="4481640"/>
            <a:ext cx="463680" cy="35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73280" y="4492800"/>
            <a:ext cx="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57160" y="448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720" y="3960720"/>
            <a:ext cx="4636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3280" y="396864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70120" y="3963960"/>
            <a:ext cx="40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77840" y="3970440"/>
            <a:ext cx="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03440" y="2894040"/>
            <a:ext cx="46332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82640" y="289080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79480" y="2897280"/>
            <a:ext cx="40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87560" y="2903400"/>
            <a:ext cx="0" cy="33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2800" y="2367000"/>
            <a:ext cx="4636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000" y="2378160"/>
            <a:ext cx="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76240" y="2370240"/>
            <a:ext cx="17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unction Semantic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37880" y="1219320"/>
            <a:ext cx="3409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an-out (Diverge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423440" y="1755720"/>
            <a:ext cx="191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Junction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8320" y="1755720"/>
            <a:ext cx="126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M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14720" y="2340000"/>
            <a:ext cx="46148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receding processes must comple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receding processes will complete simultaneousl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or more of the preceding processes will comple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or more of the preceding processes will compl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taneousl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ctly one of the preceding processes will comple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8680" y="2301840"/>
            <a:ext cx="254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nchronous “AND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21840" y="2797200"/>
            <a:ext cx="241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chronous “AND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21120" y="3355920"/>
            <a:ext cx="24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nchronous “O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21480" y="3863880"/>
            <a:ext cx="224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chronous “O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21840" y="4384800"/>
            <a:ext cx="1153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O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11360" y="3373560"/>
            <a:ext cx="463320" cy="35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0560" y="3384720"/>
            <a:ext cx="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61840" y="3376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11360" y="4424400"/>
            <a:ext cx="46332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90560" y="4435560"/>
            <a:ext cx="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61840" y="4427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1360" y="3903840"/>
            <a:ext cx="463320" cy="35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0560" y="3911760"/>
            <a:ext cx="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61840" y="3919680"/>
            <a:ext cx="40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95480" y="3913200"/>
            <a:ext cx="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0720" y="2836800"/>
            <a:ext cx="4636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00280" y="28335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71560" y="2852640"/>
            <a:ext cx="40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04840" y="2846520"/>
            <a:ext cx="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0080" y="2309760"/>
            <a:ext cx="4636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09640" y="2320920"/>
            <a:ext cx="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80560" y="2313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71360" y="1176480"/>
            <a:ext cx="348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an-in (Converge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476440" y="4892760"/>
            <a:ext cx="2125800" cy="1260360"/>
            <a:chOff x="2476440" y="4892760"/>
            <a:chExt cx="2125800" cy="1260360"/>
          </a:xfrm>
        </p:grpSpPr>
        <p:sp>
          <p:nvSpPr>
            <p:cNvPr id="412" name=""/>
            <p:cNvSpPr/>
            <p:nvPr/>
          </p:nvSpPr>
          <p:spPr>
            <a:xfrm>
              <a:off x="2486160" y="5160960"/>
              <a:ext cx="145548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70200" y="4892760"/>
              <a:ext cx="736560" cy="55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70200" y="5245200"/>
              <a:ext cx="7300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33720" y="5251320"/>
              <a:ext cx="0" cy="1875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76440" y="5927760"/>
              <a:ext cx="146232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63720" y="5600880"/>
              <a:ext cx="741600" cy="55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63720" y="5954760"/>
              <a:ext cx="735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32280" y="5961240"/>
              <a:ext cx="0" cy="187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6560" y="5170320"/>
              <a:ext cx="100800" cy="13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67" y="5"/>
                  </a:moveTo>
                  <a:arcTo wR="10800" hR="10800" stAng="-5506117" swAng="54232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67" y="5"/>
                  </a:moveTo>
                  <a:arcTo wR="10800" hR="10800" stAng="-5506117" swAng="5423296"/>
                </a:path>
              </a:pathLst>
            </a:custGeom>
            <a:noFill/>
            <a:ln cap="rnd"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00680" y="5245200"/>
              <a:ext cx="0" cy="42696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79840" y="588636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" y="48"/>
                  </a:moveTo>
                  <a:lnTo>
                    <a:pt x="0" y="0"/>
                  </a:lnTo>
                  <a:lnTo>
                    <a:pt x="46" y="22"/>
                  </a:lnTo>
                  <a:lnTo>
                    <a:pt x="1" y="48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79840" y="51246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" y="48"/>
                  </a:moveTo>
                  <a:lnTo>
                    <a:pt x="0" y="0"/>
                  </a:lnTo>
                  <a:lnTo>
                    <a:pt x="46" y="22"/>
                  </a:lnTo>
                  <a:lnTo>
                    <a:pt x="1" y="48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4000680" y="5396040"/>
              <a:ext cx="601560" cy="301320"/>
              <a:chOff x="4000680" y="5396040"/>
              <a:chExt cx="601560" cy="301320"/>
            </a:xfrm>
          </p:grpSpPr>
          <p:sp>
            <p:nvSpPr>
              <p:cNvPr id="425" name=""/>
              <p:cNvSpPr/>
              <p:nvPr/>
            </p:nvSpPr>
            <p:spPr>
              <a:xfrm>
                <a:off x="4329000" y="5396040"/>
                <a:ext cx="273240" cy="29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000680" y="5543640"/>
                <a:ext cx="258480" cy="0"/>
              </a:xfrm>
              <a:prstGeom prst="line">
                <a:avLst/>
              </a:prstGeom>
              <a:ln w="2844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398840" y="5405400"/>
                <a:ext cx="0" cy="2919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241880" y="550548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47" h="49">
                    <a:moveTo>
                      <a:pt x="1" y="48"/>
                    </a:moveTo>
                    <a:lnTo>
                      <a:pt x="0" y="0"/>
                    </a:lnTo>
                    <a:lnTo>
                      <a:pt x="46" y="22"/>
                    </a:lnTo>
                    <a:lnTo>
                      <a:pt x="1" y="48"/>
                    </a:lnTo>
                  </a:path>
                </a:pathLst>
              </a:custGeom>
              <a:solidFill>
                <a:srgbClr val="114ffb"/>
              </a:solidFill>
              <a:ln cap="rnd" w="2844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429" name=""/>
            <p:cNvCxnSpPr>
              <a:stCxn id="416" idx="0"/>
              <a:endCxn id="421" idx="0"/>
            </p:cNvCxnSpPr>
            <p:nvPr/>
          </p:nvCxnSpPr>
          <p:spPr>
            <a:xfrm flipH="1" flipV="1" rot="5400000">
              <a:off x="3840840" y="5781960"/>
              <a:ext cx="258120" cy="62640"/>
            </a:xfrm>
            <a:prstGeom prst="curvedConnector5">
              <a:avLst>
                <a:gd name="adj1" fmla="val 15921"/>
                <a:gd name="adj2" fmla="val 49710"/>
                <a:gd name="adj3" fmla="val 15921"/>
              </a:avLst>
            </a:prstGeom>
            <a:ln w="28440">
              <a:solidFill>
                <a:srgbClr val="114ffb"/>
              </a:solidFill>
              <a:miter/>
            </a:ln>
          </p:spPr>
        </p:cxn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unction Semantic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unction Exampl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92000" y="2419200"/>
            <a:ext cx="757080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unction Exampl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419120" y="2243160"/>
            <a:ext cx="63914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unction Exampl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34880" y="2747880"/>
            <a:ext cx="84092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unction Exampl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585720" y="2724120"/>
            <a:ext cx="7720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nefits of Process Model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43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current processes for standard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guidelines for new process members to reduce the learning cu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 and analyze AS-IS proc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/ redesign process for TO-BE sce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the design of a new process before embarking on an expensive development pro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advTm="5000" p14:dur="2000"/>
    </mc:Choice>
    <mc:Fallback>
      <p:transition spd="slow" advTm="5000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mple Proces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39680" y="1176480"/>
            <a:ext cx="7062840" cy="34290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5664240" y="3718080"/>
            <a:ext cx="32875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mple Proces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55520" y="1139760"/>
            <a:ext cx="7043760" cy="34988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5843520" y="3724200"/>
            <a:ext cx="3056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mple Proces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792000" y="2319480"/>
            <a:ext cx="71247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mple Proces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150840" y="1090440"/>
            <a:ext cx="6416640" cy="30942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3625920" y="4226040"/>
            <a:ext cx="540864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mple Proces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187200" y="1314360"/>
            <a:ext cx="5921640" cy="29671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2610000" y="4772160"/>
            <a:ext cx="645768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me Concrete Exampl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014480" y="2552760"/>
            <a:ext cx="675792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me Concrete exampl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1146240" y="2281320"/>
            <a:ext cx="70977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me Concrete exampl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770040" y="2095560"/>
            <a:ext cx="745956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valid Exampl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965160" y="2170080"/>
            <a:ext cx="71470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521280" y="1549440"/>
            <a:ext cx="116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31080" y="1422360"/>
            <a:ext cx="23014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2000" y="3395520"/>
            <a:ext cx="14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2360" y="480060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n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29640" y="3059280"/>
            <a:ext cx="150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31080" y="3854520"/>
            <a:ext cx="137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chron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26040" y="4643280"/>
            <a:ext cx="181044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edence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al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Flow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538440" y="4836960"/>
            <a:ext cx="1393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16480" y="2951280"/>
            <a:ext cx="1334880" cy="58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683160" y="2955960"/>
            <a:ext cx="0" cy="576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124080" y="1378080"/>
            <a:ext cx="2433240" cy="1149120"/>
            <a:chOff x="3124080" y="1378080"/>
            <a:chExt cx="2433240" cy="1149120"/>
          </a:xfrm>
        </p:grpSpPr>
        <p:sp>
          <p:nvSpPr>
            <p:cNvPr id="472" name=""/>
            <p:cNvSpPr/>
            <p:nvPr/>
          </p:nvSpPr>
          <p:spPr>
            <a:xfrm>
              <a:off x="3124080" y="1378080"/>
              <a:ext cx="2433240" cy="1149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24080" y="2109600"/>
              <a:ext cx="241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98160" y="2116080"/>
              <a:ext cx="0" cy="398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3500280" y="1577880"/>
            <a:ext cx="18669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-based 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3080" y="2166840"/>
            <a:ext cx="1051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07320" y="2176560"/>
            <a:ext cx="12499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F Ref 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99800" y="2936880"/>
            <a:ext cx="957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40240" y="3760920"/>
            <a:ext cx="1334880" cy="58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06920" y="3763800"/>
            <a:ext cx="0" cy="576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37880" y="3732120"/>
            <a:ext cx="957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16360" y="3773520"/>
            <a:ext cx="0" cy="576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48160" y="5151600"/>
            <a:ext cx="13935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57520" y="5494320"/>
            <a:ext cx="1393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48160" y="5494320"/>
            <a:ext cx="1146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IDEF3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43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Description Capture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bject State Transition Description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descriptions at any desired level of detail through Decompos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s the concepts of Scenarios to simplify the structure of complex process flow descrip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the capture of multiple view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advTm="4000" p14:dur="2000"/>
    </mc:Choice>
    <mc:Fallback>
      <p:transition spd="slow" advTm="4000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23960" y="1955520"/>
            <a:ext cx="777240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vantGarde Md BT"/>
              </a:rPr>
              <a:t>Documenting the Process Flow</a:t>
            </a:r>
            <a:endParaRPr b="1" lang="en-US" sz="60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2057400" y="4572000"/>
            <a:ext cx="64008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 Elaboratio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er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her Docum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ss Elabora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391040" y="1206360"/>
            <a:ext cx="6303600" cy="5145120"/>
            <a:chOff x="1391040" y="1206360"/>
            <a:chExt cx="6303600" cy="5145120"/>
          </a:xfrm>
        </p:grpSpPr>
        <p:sp>
          <p:nvSpPr>
            <p:cNvPr id="491" name=""/>
            <p:cNvSpPr/>
            <p:nvPr/>
          </p:nvSpPr>
          <p:spPr>
            <a:xfrm>
              <a:off x="3178080" y="2438280"/>
              <a:ext cx="789120" cy="788760"/>
            </a:xfrm>
            <a:prstGeom prst="line">
              <a:avLst/>
            </a:prstGeom>
            <a:ln w="381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92360" y="1645920"/>
              <a:ext cx="789120" cy="789120"/>
            </a:xfrm>
            <a:prstGeom prst="line">
              <a:avLst/>
            </a:prstGeom>
            <a:ln w="381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92400" y="2484360"/>
              <a:ext cx="3702240" cy="383508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35160" y="2408040"/>
              <a:ext cx="3702240" cy="3835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35160" y="2408040"/>
              <a:ext cx="3702240" cy="10152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47720" y="2473200"/>
              <a:ext cx="1449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aboration For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06800" y="2682720"/>
              <a:ext cx="1230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cess Label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06080" y="2901600"/>
              <a:ext cx="2176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cess Reference Number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98520" y="3254040"/>
              <a:ext cx="778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jects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08240" y="4006800"/>
              <a:ext cx="60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acts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96000" y="4740120"/>
              <a:ext cx="1050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straints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06080" y="5483160"/>
              <a:ext cx="1068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92480" y="2887560"/>
              <a:ext cx="230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25960" y="3116160"/>
              <a:ext cx="13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087800" y="3192120"/>
              <a:ext cx="3206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87800" y="3240000"/>
              <a:ext cx="3206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87920" y="3468600"/>
              <a:ext cx="259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87800" y="3678120"/>
              <a:ext cx="320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87800" y="3877920"/>
              <a:ext cx="320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87800" y="3954240"/>
              <a:ext cx="3206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87800" y="4001760"/>
              <a:ext cx="3206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25920" y="4221000"/>
              <a:ext cx="275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87800" y="4430520"/>
              <a:ext cx="320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87800" y="4640040"/>
              <a:ext cx="320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87800" y="4716360"/>
              <a:ext cx="3206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87800" y="4763880"/>
              <a:ext cx="3206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54320" y="4954320"/>
              <a:ext cx="233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87800" y="5163840"/>
              <a:ext cx="320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87800" y="5373360"/>
              <a:ext cx="320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87800" y="5459040"/>
              <a:ext cx="3206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87800" y="5506920"/>
              <a:ext cx="3206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83120" y="5687640"/>
              <a:ext cx="231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97160" y="5897520"/>
              <a:ext cx="32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97160" y="6107040"/>
              <a:ext cx="320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38400" y="611640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0" y="0"/>
                  </a:moveTo>
                  <a:lnTo>
                    <a:pt x="78" y="0"/>
                  </a:lnTo>
                  <a:lnTo>
                    <a:pt x="78" y="9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24000" y="6121080"/>
              <a:ext cx="196920" cy="230400"/>
            </a:xfrm>
            <a:custGeom>
              <a:avLst/>
              <a:gdLst/>
              <a:ahLst/>
              <a:rect l="l" t="t" r="r" b="b"/>
              <a:pathLst>
                <a:path w="124" h="145">
                  <a:moveTo>
                    <a:pt x="123" y="144"/>
                  </a:moveTo>
                  <a:lnTo>
                    <a:pt x="0" y="144"/>
                  </a:lnTo>
                  <a:lnTo>
                    <a:pt x="0" y="0"/>
                  </a:lnTo>
                  <a:lnTo>
                    <a:pt x="123" y="144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463400" y="1206360"/>
              <a:ext cx="2039760" cy="1231920"/>
              <a:chOff x="1463400" y="1206360"/>
              <a:chExt cx="2039760" cy="1231920"/>
            </a:xfrm>
          </p:grpSpPr>
          <p:sp>
            <p:nvSpPr>
              <p:cNvPr id="528" name=""/>
              <p:cNvSpPr/>
              <p:nvPr/>
            </p:nvSpPr>
            <p:spPr>
              <a:xfrm>
                <a:off x="1463400" y="1206360"/>
                <a:ext cx="2039760" cy="1231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63400" y="1990440"/>
                <a:ext cx="2020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376360" y="1996920"/>
                <a:ext cx="0" cy="426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1538280" y="1388880"/>
              <a:ext cx="1884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cess Lab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91040" y="2084040"/>
              <a:ext cx="1091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ess #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237320" y="2978280"/>
            <a:ext cx="6625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bject Typ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stances of Objec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89240" y="3600360"/>
            <a:ext cx="172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70800" y="3614760"/>
            <a:ext cx="199008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/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 Boo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Que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835440" y="1560600"/>
            <a:ext cx="1473120" cy="996840"/>
            <a:chOff x="3835440" y="1560600"/>
            <a:chExt cx="1473120" cy="996840"/>
          </a:xfrm>
        </p:grpSpPr>
        <p:sp>
          <p:nvSpPr>
            <p:cNvPr id="537" name=""/>
            <p:cNvSpPr/>
            <p:nvPr/>
          </p:nvSpPr>
          <p:spPr>
            <a:xfrm>
              <a:off x="3835440" y="1560600"/>
              <a:ext cx="1473120" cy="99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33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35440" y="2278080"/>
              <a:ext cx="1473120" cy="0"/>
            </a:xfrm>
            <a:prstGeom prst="line">
              <a:avLst/>
            </a:prstGeom>
            <a:ln w="28440">
              <a:solidFill>
                <a:srgbClr val="033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43400" y="2284560"/>
              <a:ext cx="0" cy="272880"/>
            </a:xfrm>
            <a:prstGeom prst="line">
              <a:avLst/>
            </a:prstGeom>
            <a:ln w="28440">
              <a:solidFill>
                <a:srgbClr val="033a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64680" y="1719360"/>
              <a:ext cx="117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Paint Pa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bjects Linked to a Proces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ferent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59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ts draw the reader’s attention to an important point or no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ts are often us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to other model elements without showing an explicit process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a “Go-To” location in complex process f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constraints on j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links to Object State Transition Net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566640" y="1351080"/>
            <a:ext cx="7883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8520" indent="-39852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 simply point the reader to some other aspect of the model that needs to be consid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117440" y="2541600"/>
            <a:ext cx="7250400" cy="3735360"/>
            <a:chOff x="1117440" y="2541600"/>
            <a:chExt cx="7250400" cy="3735360"/>
          </a:xfrm>
        </p:grpSpPr>
        <p:sp>
          <p:nvSpPr>
            <p:cNvPr id="546" name=""/>
            <p:cNvSpPr/>
            <p:nvPr/>
          </p:nvSpPr>
          <p:spPr>
            <a:xfrm flipH="1">
              <a:off x="2489040" y="5130720"/>
              <a:ext cx="1067040" cy="47952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6337440" y="3774960"/>
              <a:ext cx="349200" cy="301680"/>
              <a:chOff x="6337440" y="3774960"/>
              <a:chExt cx="349200" cy="301680"/>
            </a:xfrm>
          </p:grpSpPr>
          <p:sp>
            <p:nvSpPr>
              <p:cNvPr id="548" name=""/>
              <p:cNvSpPr/>
              <p:nvPr/>
            </p:nvSpPr>
            <p:spPr>
              <a:xfrm>
                <a:off x="6337440" y="3774960"/>
                <a:ext cx="349200" cy="301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438960" y="3784680"/>
                <a:ext cx="0" cy="287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591240" y="3781440"/>
                <a:ext cx="0" cy="290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6373440" y="380700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3308400" y="4352760"/>
              <a:ext cx="977760" cy="749160"/>
              <a:chOff x="3308400" y="4352760"/>
              <a:chExt cx="977760" cy="749160"/>
            </a:xfrm>
          </p:grpSpPr>
          <p:sp>
            <p:nvSpPr>
              <p:cNvPr id="553" name=""/>
              <p:cNvSpPr/>
              <p:nvPr/>
            </p:nvSpPr>
            <p:spPr>
              <a:xfrm>
                <a:off x="3308400" y="4352760"/>
                <a:ext cx="977760" cy="749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308400" y="4882680"/>
                <a:ext cx="9777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776760" y="4897080"/>
                <a:ext cx="0" cy="204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4908600" y="2781360"/>
              <a:ext cx="977760" cy="749160"/>
              <a:chOff x="4908600" y="2781360"/>
              <a:chExt cx="977760" cy="749160"/>
            </a:xfrm>
          </p:grpSpPr>
          <p:sp>
            <p:nvSpPr>
              <p:cNvPr id="557" name=""/>
              <p:cNvSpPr/>
              <p:nvPr/>
            </p:nvSpPr>
            <p:spPr>
              <a:xfrm>
                <a:off x="4908600" y="2781360"/>
                <a:ext cx="977760" cy="749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908600" y="3311640"/>
                <a:ext cx="9777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376960" y="3326040"/>
                <a:ext cx="0" cy="204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3308400" y="2749680"/>
              <a:ext cx="977760" cy="749160"/>
              <a:chOff x="3308400" y="2749680"/>
              <a:chExt cx="977760" cy="749160"/>
            </a:xfrm>
          </p:grpSpPr>
          <p:sp>
            <p:nvSpPr>
              <p:cNvPr id="561" name=""/>
              <p:cNvSpPr/>
              <p:nvPr/>
            </p:nvSpPr>
            <p:spPr>
              <a:xfrm>
                <a:off x="3308400" y="2749680"/>
                <a:ext cx="977760" cy="749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308400" y="3278160"/>
                <a:ext cx="9777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76760" y="3294000"/>
                <a:ext cx="0" cy="204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117440" y="3543480"/>
              <a:ext cx="978120" cy="747360"/>
              <a:chOff x="1117440" y="3543480"/>
              <a:chExt cx="978120" cy="747360"/>
            </a:xfrm>
          </p:grpSpPr>
          <p:sp>
            <p:nvSpPr>
              <p:cNvPr id="565" name=""/>
              <p:cNvSpPr/>
              <p:nvPr/>
            </p:nvSpPr>
            <p:spPr>
              <a:xfrm>
                <a:off x="1117440" y="3543480"/>
                <a:ext cx="978120" cy="74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117440" y="4071600"/>
                <a:ext cx="978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85800" y="4087440"/>
                <a:ext cx="0" cy="203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2584440" y="3774960"/>
              <a:ext cx="349200" cy="301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7365960" y="3608280"/>
              <a:ext cx="977760" cy="749520"/>
              <a:chOff x="7365960" y="3608280"/>
              <a:chExt cx="977760" cy="749520"/>
            </a:xfrm>
          </p:grpSpPr>
          <p:sp>
            <p:nvSpPr>
              <p:cNvPr id="570" name=""/>
              <p:cNvSpPr/>
              <p:nvPr/>
            </p:nvSpPr>
            <p:spPr>
              <a:xfrm>
                <a:off x="7365960" y="3608280"/>
                <a:ext cx="977760" cy="749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65960" y="4138560"/>
                <a:ext cx="9777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834320" y="4154400"/>
                <a:ext cx="0" cy="203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2108160" y="3900600"/>
              <a:ext cx="46368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2768760" y="3133440"/>
              <a:ext cx="0" cy="6318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93960" y="3139920"/>
              <a:ext cx="50184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17840" y="3106800"/>
              <a:ext cx="57816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68760" y="4089240"/>
              <a:ext cx="0" cy="63216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84600" y="4727520"/>
              <a:ext cx="52056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99120" y="4743360"/>
              <a:ext cx="221616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521400" y="4076640"/>
              <a:ext cx="0" cy="6732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99320" y="3124080"/>
              <a:ext cx="59688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02320" y="3130560"/>
              <a:ext cx="0" cy="6318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99240" y="3916440"/>
              <a:ext cx="65412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20040" y="4060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382200" y="3270240"/>
              <a:ext cx="309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73040" y="3303720"/>
              <a:ext cx="309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2200" y="4873680"/>
              <a:ext cx="309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58840" y="4140360"/>
              <a:ext cx="309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29240" y="4200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24680" y="4184640"/>
              <a:ext cx="39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82720" y="378288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658600" y="380520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74880" y="3139920"/>
              <a:ext cx="32076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375080" y="3106800"/>
              <a:ext cx="33012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02320" y="3187800"/>
              <a:ext cx="0" cy="40788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1212840" y="2552760"/>
              <a:ext cx="787320" cy="533520"/>
              <a:chOff x="1212840" y="2552760"/>
              <a:chExt cx="787320" cy="533520"/>
            </a:xfrm>
          </p:grpSpPr>
          <p:sp>
            <p:nvSpPr>
              <p:cNvPr id="597" name=""/>
              <p:cNvSpPr/>
              <p:nvPr/>
            </p:nvSpPr>
            <p:spPr>
              <a:xfrm>
                <a:off x="1212840" y="2552760"/>
                <a:ext cx="787320" cy="533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12840" y="2944800"/>
                <a:ext cx="787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1606680" y="3098880"/>
              <a:ext cx="0" cy="46656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32360" y="5114880"/>
              <a:ext cx="939600" cy="4334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171440" y="2541600"/>
              <a:ext cx="827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ject: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. Req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79400" y="5319720"/>
              <a:ext cx="1082880" cy="798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79400" y="5972040"/>
              <a:ext cx="10828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46440" y="5329080"/>
              <a:ext cx="0" cy="627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41400" y="5292720"/>
              <a:ext cx="93672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cenario /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dering Contracted part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4498920" y="5560920"/>
              <a:ext cx="1130400" cy="716040"/>
              <a:chOff x="4498920" y="5560920"/>
              <a:chExt cx="1130400" cy="71604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4498920" y="5560920"/>
                <a:ext cx="1130400" cy="716040"/>
                <a:chOff x="4498920" y="5560920"/>
                <a:chExt cx="1130400" cy="71604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498920" y="5560920"/>
                  <a:ext cx="1130400" cy="7160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498920" y="6086520"/>
                  <a:ext cx="113040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4726080" y="5560920"/>
                <a:ext cx="0" cy="517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52920" y="5560920"/>
                <a:ext cx="0" cy="517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4684680" y="5584680"/>
              <a:ext cx="83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bject /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tracted Part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44440" y="3524400"/>
              <a:ext cx="9367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ceive request for purchas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335720" y="3571920"/>
              <a:ext cx="10321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epare and dispatch purchas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916520" y="2809800"/>
              <a:ext cx="1031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egotiate price with vend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59080" y="4371840"/>
              <a:ext cx="1031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ceive request for purchas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82920" y="2781360"/>
              <a:ext cx="1031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dentify Suppl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ferent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ther Documenta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94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ual descriptions of the process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material used in the construction of the process descri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tations resulting from the model review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510920"/>
            <a:ext cx="7772400" cy="28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vantGarde Md BT"/>
              </a:rPr>
              <a:t>Enhancing the Process Descriptions</a:t>
            </a:r>
            <a:endParaRPr b="1" lang="en-US" sz="60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2057400" y="4191120"/>
            <a:ext cx="640080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enar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enario Objecti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composi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 State Transmission Network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Scenario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12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s are the organizing structure for IDEF3 descri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cenario represents a commonly occurring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35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views can be different sce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35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e scenario is alway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819520" y="5029200"/>
            <a:ext cx="3581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Painting a part in the company paint shop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43040" y="1676520"/>
            <a:ext cx="7656480" cy="3120120"/>
            <a:chOff x="743040" y="1676520"/>
            <a:chExt cx="7656480" cy="3120120"/>
          </a:xfrm>
        </p:grpSpPr>
        <p:sp>
          <p:nvSpPr>
            <p:cNvPr id="627" name=""/>
            <p:cNvSpPr/>
            <p:nvPr/>
          </p:nvSpPr>
          <p:spPr>
            <a:xfrm>
              <a:off x="1800360" y="3191040"/>
              <a:ext cx="501624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42160" y="2190600"/>
              <a:ext cx="22860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43440" y="3132000"/>
              <a:ext cx="155880" cy="120960"/>
            </a:xfrm>
            <a:custGeom>
              <a:avLst/>
              <a:gdLst/>
              <a:ahLst/>
              <a:rect l="l" t="t" r="r" b="b"/>
              <a:pathLst>
                <a:path w="98" h="76">
                  <a:moveTo>
                    <a:pt x="2" y="75"/>
                  </a:moveTo>
                  <a:lnTo>
                    <a:pt x="0" y="0"/>
                  </a:lnTo>
                  <a:lnTo>
                    <a:pt x="97" y="35"/>
                  </a:lnTo>
                  <a:lnTo>
                    <a:pt x="2" y="75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5907240" y="2898360"/>
              <a:ext cx="555480" cy="641160"/>
              <a:chOff x="5907240" y="2898360"/>
              <a:chExt cx="555480" cy="641160"/>
            </a:xfrm>
          </p:grpSpPr>
          <p:sp>
            <p:nvSpPr>
              <p:cNvPr id="631" name=""/>
              <p:cNvSpPr/>
              <p:nvPr/>
            </p:nvSpPr>
            <p:spPr>
              <a:xfrm>
                <a:off x="5907240" y="2914560"/>
                <a:ext cx="555480" cy="615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5997600" y="2898360"/>
                <a:ext cx="0" cy="641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372360" y="2898360"/>
                <a:ext cx="0" cy="641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V="1">
              <a:off x="6829560" y="2187720"/>
              <a:ext cx="0" cy="203832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89400" y="2603520"/>
              <a:ext cx="1255680" cy="1069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143840" y="3714840"/>
              <a:ext cx="1255680" cy="1081800"/>
              <a:chOff x="7143840" y="3714840"/>
              <a:chExt cx="1255680" cy="1081800"/>
            </a:xfrm>
          </p:grpSpPr>
          <p:sp>
            <p:nvSpPr>
              <p:cNvPr id="637" name=""/>
              <p:cNvSpPr/>
              <p:nvPr/>
            </p:nvSpPr>
            <p:spPr>
              <a:xfrm>
                <a:off x="7143840" y="3714840"/>
                <a:ext cx="1255680" cy="10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147080" y="4403520"/>
                <a:ext cx="12506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7800840" y="4403160"/>
                <a:ext cx="0" cy="393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4289400" y="3287880"/>
              <a:ext cx="1251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4943520" y="3287520"/>
              <a:ext cx="0" cy="393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962760" y="2131920"/>
              <a:ext cx="155520" cy="120600"/>
            </a:xfrm>
            <a:custGeom>
              <a:avLst/>
              <a:gdLst/>
              <a:ahLst/>
              <a:rect l="l" t="t" r="r" b="b"/>
              <a:pathLst>
                <a:path w="98" h="76">
                  <a:moveTo>
                    <a:pt x="2" y="75"/>
                  </a:moveTo>
                  <a:lnTo>
                    <a:pt x="0" y="0"/>
                  </a:lnTo>
                  <a:lnTo>
                    <a:pt x="97" y="35"/>
                  </a:lnTo>
                  <a:lnTo>
                    <a:pt x="2" y="75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42160" y="4219560"/>
              <a:ext cx="22860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78600" y="4160880"/>
              <a:ext cx="155520" cy="120600"/>
            </a:xfrm>
            <a:custGeom>
              <a:avLst/>
              <a:gdLst/>
              <a:ahLst/>
              <a:rect l="l" t="t" r="r" b="b"/>
              <a:pathLst>
                <a:path w="98" h="76">
                  <a:moveTo>
                    <a:pt x="2" y="75"/>
                  </a:moveTo>
                  <a:lnTo>
                    <a:pt x="0" y="0"/>
                  </a:lnTo>
                  <a:lnTo>
                    <a:pt x="97" y="35"/>
                  </a:lnTo>
                  <a:lnTo>
                    <a:pt x="2" y="75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40000" y="3132000"/>
              <a:ext cx="155520" cy="120960"/>
            </a:xfrm>
            <a:custGeom>
              <a:avLst/>
              <a:gdLst/>
              <a:ahLst/>
              <a:rect l="l" t="t" r="r" b="b"/>
              <a:pathLst>
                <a:path w="98" h="76">
                  <a:moveTo>
                    <a:pt x="2" y="75"/>
                  </a:moveTo>
                  <a:lnTo>
                    <a:pt x="0" y="0"/>
                  </a:lnTo>
                  <a:lnTo>
                    <a:pt x="97" y="35"/>
                  </a:lnTo>
                  <a:lnTo>
                    <a:pt x="2" y="75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3040" y="2614680"/>
              <a:ext cx="1255680" cy="1069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6280" y="3298680"/>
              <a:ext cx="1250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1400040" y="3298680"/>
              <a:ext cx="0" cy="393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118040" y="3125880"/>
              <a:ext cx="155520" cy="120600"/>
            </a:xfrm>
            <a:custGeom>
              <a:avLst/>
              <a:gdLst/>
              <a:ahLst/>
              <a:rect l="l" t="t" r="r" b="b"/>
              <a:pathLst>
                <a:path w="98" h="76">
                  <a:moveTo>
                    <a:pt x="2" y="75"/>
                  </a:moveTo>
                  <a:lnTo>
                    <a:pt x="0" y="0"/>
                  </a:lnTo>
                  <a:lnTo>
                    <a:pt x="97" y="35"/>
                  </a:lnTo>
                  <a:lnTo>
                    <a:pt x="2" y="75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16040" y="2600280"/>
              <a:ext cx="1256040" cy="1069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17840" y="3281400"/>
              <a:ext cx="1251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71960" y="3281400"/>
              <a:ext cx="0" cy="393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7143840" y="1676520"/>
              <a:ext cx="1255680" cy="1082160"/>
              <a:chOff x="7143840" y="1676520"/>
              <a:chExt cx="1255680" cy="1082160"/>
            </a:xfrm>
          </p:grpSpPr>
          <p:sp>
            <p:nvSpPr>
              <p:cNvPr id="654" name=""/>
              <p:cNvSpPr/>
              <p:nvPr/>
            </p:nvSpPr>
            <p:spPr>
              <a:xfrm>
                <a:off x="7143840" y="1676520"/>
                <a:ext cx="1255680" cy="10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147080" y="2365560"/>
                <a:ext cx="12506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7800840" y="2365200"/>
                <a:ext cx="0" cy="393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928080" y="2660760"/>
              <a:ext cx="65232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37800" y="3365640"/>
              <a:ext cx="2959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19080" y="3327480"/>
              <a:ext cx="2959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81280" y="3336840"/>
              <a:ext cx="2959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014880" y="3079800"/>
              <a:ext cx="3459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80560" y="2679840"/>
              <a:ext cx="53820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42400" y="2689200"/>
              <a:ext cx="100908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ver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51840" y="1746360"/>
              <a:ext cx="106704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o-To/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int p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2920" y="2413080"/>
              <a:ext cx="4741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19520" y="4470480"/>
              <a:ext cx="2959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61560" y="3774960"/>
              <a:ext cx="101520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ute 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 st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int Shop Exampl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enario Objectiv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83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s what can be seen and from what persp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s the goal of the communication intended by the descri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why the description is being developed, and specifies how it will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s the subject of a descri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s the subject as a part of a larger wh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a boundary with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63480" y="1523880"/>
            <a:ext cx="8102520" cy="4254480"/>
            <a:chOff x="663480" y="1523880"/>
            <a:chExt cx="8102520" cy="4254480"/>
          </a:xfrm>
        </p:grpSpPr>
        <p:sp>
          <p:nvSpPr>
            <p:cNvPr id="85" name=""/>
            <p:cNvSpPr/>
            <p:nvPr/>
          </p:nvSpPr>
          <p:spPr>
            <a:xfrm>
              <a:off x="663480" y="1523880"/>
              <a:ext cx="7748640" cy="68580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3480" y="2127240"/>
              <a:ext cx="7748640" cy="365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9320" y="2127240"/>
              <a:ext cx="773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59400" y="2127240"/>
              <a:ext cx="0" cy="36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99840" y="1600200"/>
              <a:ext cx="2086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low Cha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79320" y="1600200"/>
              <a:ext cx="247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rocess Mode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1080" y="2265480"/>
              <a:ext cx="3289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veys process logic in an ambiguous mann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567320"/>
              <a:ext cx="38066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es not provide information about the objects in a proc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45080" y="2276640"/>
              <a:ext cx="35290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veys process logic with unambiguous synta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21320" y="3408480"/>
              <a:ext cx="3535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n capture varying levels of abstra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21320" y="4551480"/>
              <a:ext cx="4144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mbellishes the process with objects and simulation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5120" y="3408480"/>
              <a:ext cx="38224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rying levels of abstraction cannot be captur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9320" y="4489560"/>
              <a:ext cx="773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9320" y="3346560"/>
              <a:ext cx="771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low Charting vs Process Model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736640" y="4667400"/>
            <a:ext cx="5959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yntactically, a decomposition is just another IDEF3 process flow dia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9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complexity of a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the capture of descriptions at varying levels of abst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the ability to model the same process from different knowledge sources or different points of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5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bjectiv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ultiple view decompositions may be consolidated into an objective view--the view perceived by a neutral observer.  There can be only one objective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ol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view of a process as understood by, or from the perspective of, one individual, role type, or functional organization. There may be more than one role view of a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466560" y="4572000"/>
            <a:ext cx="8210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op-level Scenario: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AS-IS Order 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873000" y="2286000"/>
            <a:ext cx="7391520" cy="1333080"/>
            <a:chOff x="873000" y="2286000"/>
            <a:chExt cx="7391520" cy="1333080"/>
          </a:xfrm>
        </p:grpSpPr>
        <p:sp>
          <p:nvSpPr>
            <p:cNvPr id="678" name=""/>
            <p:cNvSpPr/>
            <p:nvPr/>
          </p:nvSpPr>
          <p:spPr>
            <a:xfrm>
              <a:off x="1824120" y="2984400"/>
              <a:ext cx="518796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878040" y="2298600"/>
              <a:ext cx="1234800" cy="1320480"/>
              <a:chOff x="878040" y="2298600"/>
              <a:chExt cx="1234800" cy="1320480"/>
            </a:xfrm>
          </p:grpSpPr>
          <p:sp>
            <p:nvSpPr>
              <p:cNvPr id="680" name=""/>
              <p:cNvSpPr/>
              <p:nvPr/>
            </p:nvSpPr>
            <p:spPr>
              <a:xfrm>
                <a:off x="895320" y="2298600"/>
                <a:ext cx="1217520" cy="1303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78040" y="3192120"/>
                <a:ext cx="1234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512720" y="3198600"/>
                <a:ext cx="0" cy="420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873000" y="2292480"/>
              <a:ext cx="12272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stomer Places Ord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42840" y="322884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2957400" y="2295360"/>
              <a:ext cx="1235160" cy="1320840"/>
              <a:chOff x="2957400" y="2295360"/>
              <a:chExt cx="1235160" cy="1320840"/>
            </a:xfrm>
          </p:grpSpPr>
          <p:sp>
            <p:nvSpPr>
              <p:cNvPr id="686" name=""/>
              <p:cNvSpPr/>
              <p:nvPr/>
            </p:nvSpPr>
            <p:spPr>
              <a:xfrm>
                <a:off x="2975040" y="2295360"/>
                <a:ext cx="1217520" cy="1303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957400" y="3188880"/>
                <a:ext cx="1235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592440" y="3195360"/>
                <a:ext cx="0" cy="420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2952720" y="2289240"/>
              <a:ext cx="12272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pplier Processes Ord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22560" y="322596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84920" y="2295360"/>
              <a:ext cx="1234800" cy="1320840"/>
              <a:chOff x="4984920" y="2295360"/>
              <a:chExt cx="1234800" cy="1320840"/>
            </a:xfrm>
          </p:grpSpPr>
          <p:sp>
            <p:nvSpPr>
              <p:cNvPr id="692" name=""/>
              <p:cNvSpPr/>
              <p:nvPr/>
            </p:nvSpPr>
            <p:spPr>
              <a:xfrm>
                <a:off x="5002200" y="2295360"/>
                <a:ext cx="1217520" cy="1303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84920" y="3188880"/>
                <a:ext cx="1234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619600" y="3195360"/>
                <a:ext cx="0" cy="420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4979880" y="2289240"/>
              <a:ext cx="12272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. Svc. Transports Material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49720" y="322596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7029360" y="2292480"/>
              <a:ext cx="1235160" cy="1320840"/>
              <a:chOff x="7029360" y="2292480"/>
              <a:chExt cx="1235160" cy="1320840"/>
            </a:xfrm>
          </p:grpSpPr>
          <p:sp>
            <p:nvSpPr>
              <p:cNvPr id="698" name=""/>
              <p:cNvSpPr/>
              <p:nvPr/>
            </p:nvSpPr>
            <p:spPr>
              <a:xfrm>
                <a:off x="7047000" y="2292480"/>
                <a:ext cx="1217520" cy="1303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29360" y="3186360"/>
                <a:ext cx="1235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664400" y="3192480"/>
                <a:ext cx="0" cy="420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7024680" y="2286000"/>
              <a:ext cx="12272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stomer Rec./Dis. Material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094520" y="322272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50960" y="2984400"/>
              <a:ext cx="40824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570560" y="2984400"/>
              <a:ext cx="40788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rchase Order Exampl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055520" y="3219480"/>
            <a:ext cx="41245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composition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ustomer Places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801720" y="4297320"/>
            <a:ext cx="7515360" cy="1371600"/>
            <a:chOff x="801720" y="4297320"/>
            <a:chExt cx="7515360" cy="1371600"/>
          </a:xfrm>
        </p:grpSpPr>
        <p:sp>
          <p:nvSpPr>
            <p:cNvPr id="708" name=""/>
            <p:cNvSpPr/>
            <p:nvPr/>
          </p:nvSpPr>
          <p:spPr>
            <a:xfrm>
              <a:off x="1747800" y="5033880"/>
              <a:ext cx="518796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801720" y="4348080"/>
              <a:ext cx="1235160" cy="1320840"/>
              <a:chOff x="801720" y="4348080"/>
              <a:chExt cx="1235160" cy="1320840"/>
            </a:xfrm>
          </p:grpSpPr>
          <p:sp>
            <p:nvSpPr>
              <p:cNvPr id="710" name=""/>
              <p:cNvSpPr/>
              <p:nvPr/>
            </p:nvSpPr>
            <p:spPr>
              <a:xfrm>
                <a:off x="819000" y="4348080"/>
                <a:ext cx="1217880" cy="1303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01720" y="5241960"/>
                <a:ext cx="1235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436760" y="5248080"/>
                <a:ext cx="0" cy="420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801720" y="4346640"/>
              <a:ext cx="121752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66880" y="5278320"/>
              <a:ext cx="53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898720" y="4344840"/>
              <a:ext cx="1217520" cy="1303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881440" y="5238720"/>
              <a:ext cx="1234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16480" y="5245200"/>
              <a:ext cx="0" cy="420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24120" y="4305240"/>
              <a:ext cx="159084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ys. Cross      Ref. Part # w/Order     Detail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946240" y="527544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4908600" y="4344840"/>
              <a:ext cx="1235160" cy="1320840"/>
              <a:chOff x="4908600" y="4344840"/>
              <a:chExt cx="1235160" cy="1320840"/>
            </a:xfrm>
          </p:grpSpPr>
          <p:sp>
            <p:nvSpPr>
              <p:cNvPr id="721" name=""/>
              <p:cNvSpPr/>
              <p:nvPr/>
            </p:nvSpPr>
            <p:spPr>
              <a:xfrm>
                <a:off x="4925880" y="4344840"/>
                <a:ext cx="1217880" cy="1303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908600" y="5238720"/>
                <a:ext cx="1235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43640" y="5245200"/>
                <a:ext cx="0" cy="420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4973760" y="5275440"/>
              <a:ext cx="53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6953400" y="4341960"/>
              <a:ext cx="1234800" cy="1320120"/>
              <a:chOff x="6953400" y="4341960"/>
              <a:chExt cx="1234800" cy="1320120"/>
            </a:xfrm>
          </p:grpSpPr>
          <p:sp>
            <p:nvSpPr>
              <p:cNvPr id="726" name=""/>
              <p:cNvSpPr/>
              <p:nvPr/>
            </p:nvSpPr>
            <p:spPr>
              <a:xfrm>
                <a:off x="6970680" y="4341960"/>
                <a:ext cx="1217520" cy="1303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53400" y="5235480"/>
                <a:ext cx="1234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588080" y="5241960"/>
                <a:ext cx="0" cy="420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6808680" y="4300560"/>
              <a:ext cx="150840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Open Channel/Send File to Target Printer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18200" y="527220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475000" y="5033880"/>
              <a:ext cx="40788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97480" y="5043600"/>
              <a:ext cx="40788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12880" y="4349880"/>
              <a:ext cx="131904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Operator Enters Item Description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71880" y="4297320"/>
              <a:ext cx="131292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ystem Generates Pick Ticket Fil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077840" y="1459080"/>
            <a:ext cx="7391520" cy="1333440"/>
            <a:chOff x="1077840" y="1459080"/>
            <a:chExt cx="7391520" cy="1333440"/>
          </a:xfrm>
        </p:grpSpPr>
        <p:sp>
          <p:nvSpPr>
            <p:cNvPr id="736" name=""/>
            <p:cNvSpPr/>
            <p:nvPr/>
          </p:nvSpPr>
          <p:spPr>
            <a:xfrm>
              <a:off x="2028960" y="2157480"/>
              <a:ext cx="518796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1082520" y="1471680"/>
              <a:ext cx="1235160" cy="1320840"/>
              <a:chOff x="1082520" y="1471680"/>
              <a:chExt cx="1235160" cy="1320840"/>
            </a:xfrm>
          </p:grpSpPr>
          <p:sp>
            <p:nvSpPr>
              <p:cNvPr id="738" name=""/>
              <p:cNvSpPr/>
              <p:nvPr/>
            </p:nvSpPr>
            <p:spPr>
              <a:xfrm>
                <a:off x="1100160" y="1471680"/>
                <a:ext cx="1217520" cy="1303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082520" y="2365200"/>
                <a:ext cx="1235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717560" y="2371680"/>
                <a:ext cx="0" cy="420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1077840" y="1465200"/>
              <a:ext cx="12272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stomer Places Ord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7680" y="240192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3162240" y="1468440"/>
              <a:ext cx="1235160" cy="1320840"/>
              <a:chOff x="3162240" y="1468440"/>
              <a:chExt cx="1235160" cy="1320840"/>
            </a:xfrm>
          </p:grpSpPr>
          <p:sp>
            <p:nvSpPr>
              <p:cNvPr id="744" name=""/>
              <p:cNvSpPr/>
              <p:nvPr/>
            </p:nvSpPr>
            <p:spPr>
              <a:xfrm>
                <a:off x="3179880" y="1468440"/>
                <a:ext cx="1217520" cy="1303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162240" y="2362320"/>
                <a:ext cx="1235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797280" y="2368440"/>
                <a:ext cx="0" cy="420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3157560" y="1461960"/>
              <a:ext cx="12272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pplier Processes Ord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27400" y="239868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5189400" y="1468440"/>
              <a:ext cx="1235160" cy="1320840"/>
              <a:chOff x="5189400" y="1468440"/>
              <a:chExt cx="1235160" cy="1320840"/>
            </a:xfrm>
          </p:grpSpPr>
          <p:sp>
            <p:nvSpPr>
              <p:cNvPr id="750" name=""/>
              <p:cNvSpPr/>
              <p:nvPr/>
            </p:nvSpPr>
            <p:spPr>
              <a:xfrm>
                <a:off x="5207040" y="1468440"/>
                <a:ext cx="1217520" cy="1303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189400" y="2362320"/>
                <a:ext cx="1235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24440" y="2368440"/>
                <a:ext cx="0" cy="420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5184720" y="1461960"/>
              <a:ext cx="12272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. Svc. Transports Material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54560" y="239868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7234200" y="1465200"/>
              <a:ext cx="1235160" cy="1320840"/>
              <a:chOff x="7234200" y="1465200"/>
              <a:chExt cx="1235160" cy="1320840"/>
            </a:xfrm>
          </p:grpSpPr>
          <p:sp>
            <p:nvSpPr>
              <p:cNvPr id="756" name=""/>
              <p:cNvSpPr/>
              <p:nvPr/>
            </p:nvSpPr>
            <p:spPr>
              <a:xfrm>
                <a:off x="7251840" y="1465200"/>
                <a:ext cx="1217520" cy="1303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234200" y="2359080"/>
                <a:ext cx="12351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869240" y="2365200"/>
                <a:ext cx="0" cy="420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7229520" y="1459080"/>
              <a:ext cx="12272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stomer Rec./Dis. Material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99360" y="2395440"/>
              <a:ext cx="533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755800" y="2157480"/>
              <a:ext cx="40824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78280" y="2166840"/>
              <a:ext cx="40824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H="1">
            <a:off x="298080" y="2781360"/>
            <a:ext cx="717480" cy="2292120"/>
          </a:xfrm>
          <a:prstGeom prst="line">
            <a:avLst/>
          </a:prstGeom>
          <a:ln w="50760">
            <a:solidFill>
              <a:srgbClr val="114ff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540160" y="2762280"/>
            <a:ext cx="6254640" cy="1454040"/>
          </a:xfrm>
          <a:prstGeom prst="line">
            <a:avLst/>
          </a:prstGeom>
          <a:ln w="50760">
            <a:solidFill>
              <a:srgbClr val="114ff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rchase Order Exampl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74640" y="1117440"/>
            <a:ext cx="7450200" cy="56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2762280" y="4092480"/>
            <a:ext cx="6305400" cy="27068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174600" y="1168560"/>
            <a:ext cx="482904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1111320" y="1477800"/>
            <a:ext cx="66006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903240" y="2276640"/>
            <a:ext cx="7964640" cy="307332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903240" y="5899320"/>
            <a:ext cx="796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Uncertainty of the domain expert’s knowle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alyzing Objects &amp; Object Stat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3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nd their related processes can be studied in an object-centered view by using the Object State Transition Network (OST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147600" y="1774800"/>
            <a:ext cx="2657880" cy="30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Object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ransition A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Refe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332240" y="1600200"/>
            <a:ext cx="1001880" cy="958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448520" y="1703520"/>
            <a:ext cx="7927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05160" y="3325680"/>
            <a:ext cx="1378080" cy="1800"/>
          </a:xfrm>
          <a:prstGeom prst="line">
            <a:avLst/>
          </a:prstGeom>
          <a:ln w="2844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84480" y="5083200"/>
            <a:ext cx="405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ctr" pos="797040"/>
                <a:tab algn="ctr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chron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ctr" pos="797040"/>
                <a:tab algn="ctr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4025880" y="4038120"/>
            <a:ext cx="3940200" cy="1029240"/>
            <a:chOff x="4025880" y="4038120"/>
            <a:chExt cx="3940200" cy="1029240"/>
          </a:xfrm>
        </p:grpSpPr>
        <p:sp>
          <p:nvSpPr>
            <p:cNvPr id="784" name=""/>
            <p:cNvSpPr/>
            <p:nvPr/>
          </p:nvSpPr>
          <p:spPr>
            <a:xfrm>
              <a:off x="4025880" y="4051440"/>
              <a:ext cx="1744560" cy="101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027320" y="4732200"/>
              <a:ext cx="1738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405320" y="4745160"/>
              <a:ext cx="955800" cy="32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367160" y="4202280"/>
              <a:ext cx="119376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feren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/I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48000" y="4056120"/>
              <a:ext cx="0" cy="668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21520" y="4046400"/>
              <a:ext cx="1744560" cy="1016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222960" y="4727520"/>
              <a:ext cx="1738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00960" y="4740120"/>
              <a:ext cx="955440" cy="32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48480" y="4197240"/>
              <a:ext cx="119376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feren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/I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34240" y="4051440"/>
              <a:ext cx="0" cy="668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6481800" y="4038120"/>
              <a:ext cx="0" cy="698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IDEF3 OSTN Languag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Generic Process Modeling Tool ..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4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s the IDEF3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heres to the method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background quality checking and advisory sup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es SmartDraw cap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3427560" y="1276200"/>
            <a:ext cx="281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ransition Ar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122640" y="2270160"/>
            <a:ext cx="3308400" cy="3155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03120" y="2585880"/>
            <a:ext cx="180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44760" y="3139920"/>
            <a:ext cx="2863800" cy="1339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96880" y="3595680"/>
            <a:ext cx="1016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269600" y="3595680"/>
            <a:ext cx="1065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240160" y="3595680"/>
            <a:ext cx="1016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53040" y="3149640"/>
            <a:ext cx="0" cy="1320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00640" y="3139920"/>
            <a:ext cx="0" cy="1320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29920" y="4721400"/>
            <a:ext cx="313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n the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tate Elab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535200" y="4560480"/>
            <a:ext cx="648000" cy="360360"/>
          </a:xfrm>
          <a:prstGeom prst="line">
            <a:avLst/>
          </a:prstGeom>
          <a:ln w="2844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083120" y="4538520"/>
            <a:ext cx="163440" cy="123840"/>
          </a:xfrm>
          <a:custGeom>
            <a:avLst/>
            <a:gdLst/>
            <a:ahLst/>
            <a:rect l="l" t="t" r="r" b="b"/>
            <a:pathLst>
              <a:path w="103" h="78">
                <a:moveTo>
                  <a:pt x="0" y="9"/>
                </a:moveTo>
                <a:lnTo>
                  <a:pt x="34" y="77"/>
                </a:lnTo>
                <a:lnTo>
                  <a:pt x="102" y="0"/>
                </a:lnTo>
                <a:lnTo>
                  <a:pt x="0" y="9"/>
                </a:lnTo>
              </a:path>
            </a:pathLst>
          </a:custGeom>
          <a:solidFill>
            <a:srgbClr val="114ffb"/>
          </a:solidFill>
          <a:ln cap="rnd" w="2844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2878200" y="4694400"/>
            <a:ext cx="685800" cy="388800"/>
          </a:xfrm>
          <a:prstGeom prst="line">
            <a:avLst/>
          </a:prstGeom>
          <a:ln w="2844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3525840" y="4689000"/>
            <a:ext cx="54000" cy="241560"/>
          </a:xfrm>
          <a:prstGeom prst="line">
            <a:avLst/>
          </a:prstGeom>
          <a:ln w="2844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535720" y="1579680"/>
            <a:ext cx="1167840" cy="7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870280" y="1598760"/>
            <a:ext cx="1168200" cy="7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0658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0658"/>
              </a:path>
            </a:pathLst>
          </a:custGeom>
          <a:noFill/>
          <a:ln cap="rnd" w="28440">
            <a:solidFill>
              <a:srgbClr val="114f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513160" y="1874880"/>
            <a:ext cx="834840" cy="834840"/>
          </a:xfrm>
          <a:prstGeom prst="line">
            <a:avLst/>
          </a:prstGeom>
          <a:ln w="2844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6237360" y="1861920"/>
            <a:ext cx="887400" cy="912600"/>
          </a:xfrm>
          <a:prstGeom prst="line">
            <a:avLst/>
          </a:prstGeom>
          <a:ln w="2844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IDEF3 OSTN Languag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STN Diagram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522600" y="2514600"/>
            <a:ext cx="5316480" cy="3957480"/>
            <a:chOff x="3522600" y="2514600"/>
            <a:chExt cx="5316480" cy="3957480"/>
          </a:xfrm>
        </p:grpSpPr>
        <p:sp>
          <p:nvSpPr>
            <p:cNvPr id="817" name=""/>
            <p:cNvSpPr/>
            <p:nvPr/>
          </p:nvSpPr>
          <p:spPr>
            <a:xfrm flipH="1" flipV="1">
              <a:off x="5481720" y="4422240"/>
              <a:ext cx="288720" cy="490680"/>
            </a:xfrm>
            <a:prstGeom prst="line">
              <a:avLst/>
            </a:prstGeom>
            <a:ln w="2844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859360" y="3319200"/>
              <a:ext cx="0" cy="91116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4621320" y="4001760"/>
              <a:ext cx="0" cy="91116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551480" y="5540400"/>
              <a:ext cx="2101680" cy="42696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7561440" y="5190840"/>
              <a:ext cx="453960" cy="54612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237440" y="3997440"/>
              <a:ext cx="654120" cy="45396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4313160" y="3919680"/>
              <a:ext cx="2054160" cy="117288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08520" y="2522520"/>
              <a:ext cx="1577880" cy="843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809960" y="3089160"/>
              <a:ext cx="1571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176880" y="2527200"/>
              <a:ext cx="0" cy="554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5043600" y="2514600"/>
              <a:ext cx="0" cy="582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522600" y="3541680"/>
              <a:ext cx="1577880" cy="84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524400" y="4108320"/>
              <a:ext cx="1571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3757680" y="3533400"/>
              <a:ext cx="0" cy="584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89400" y="4730760"/>
              <a:ext cx="1578240" cy="843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91200" y="5295960"/>
              <a:ext cx="1571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29240" y="4802040"/>
              <a:ext cx="11937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fe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558120" y="4735440"/>
              <a:ext cx="0" cy="552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5424480" y="4722840"/>
              <a:ext cx="0" cy="582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32400" y="3359160"/>
              <a:ext cx="1001880" cy="942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20240" y="3535200"/>
              <a:ext cx="85032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 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837560" y="4276800"/>
              <a:ext cx="1001520" cy="941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880760" y="4460760"/>
              <a:ext cx="93888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 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13640" y="5530680"/>
              <a:ext cx="1001520" cy="941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62960" y="5695920"/>
              <a:ext cx="92664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 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637080" y="4903920"/>
              <a:ext cx="1001520" cy="941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753360" y="5068800"/>
              <a:ext cx="792720" cy="5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te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00920" y="5151600"/>
              <a:ext cx="138240" cy="1634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65" y="102"/>
                  </a:moveTo>
                  <a:lnTo>
                    <a:pt x="0" y="60"/>
                  </a:lnTo>
                  <a:lnTo>
                    <a:pt x="86" y="0"/>
                  </a:lnTo>
                  <a:lnTo>
                    <a:pt x="65" y="102"/>
                  </a:lnTo>
                </a:path>
              </a:pathLst>
            </a:custGeom>
            <a:solidFill>
              <a:srgbClr val="114ffb"/>
            </a:solidFill>
            <a:ln cap="rnd" w="2844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890880" y="3603600"/>
              <a:ext cx="11937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en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fe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19560" y="2575080"/>
              <a:ext cx="11937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ST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fe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685800" y="1295280"/>
            <a:ext cx="777240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9996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construction of an object-centered vie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es allowable transitions of an object in the dom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85800" y="2590920"/>
            <a:ext cx="2819520" cy="31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99960" indent="-39996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document data life cyc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s across the process flow diagra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s dynamic behavior of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int OSTN (Focus Object: Paint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965160" y="1219320"/>
            <a:ext cx="6983280" cy="4311360"/>
            <a:chOff x="965160" y="1219320"/>
            <a:chExt cx="6983280" cy="4311360"/>
          </a:xfrm>
        </p:grpSpPr>
        <p:sp>
          <p:nvSpPr>
            <p:cNvPr id="851" name=""/>
            <p:cNvSpPr/>
            <p:nvPr/>
          </p:nvSpPr>
          <p:spPr>
            <a:xfrm flipH="1" flipV="1">
              <a:off x="6222960" y="2457360"/>
              <a:ext cx="432000" cy="47016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5378400" y="3905280"/>
              <a:ext cx="692280" cy="8510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5556240" y="2097000"/>
              <a:ext cx="1085760" cy="91296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3162240" y="3238560"/>
              <a:ext cx="0" cy="73656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2343240" y="2139480"/>
              <a:ext cx="0" cy="111132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03760" y="3579840"/>
              <a:ext cx="1032120" cy="68112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530360" y="1413000"/>
              <a:ext cx="1577880" cy="84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531800" y="1979640"/>
              <a:ext cx="1571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1803240" y="1405080"/>
              <a:ext cx="0" cy="583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89320" y="3745080"/>
              <a:ext cx="1577880" cy="842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90760" y="4309920"/>
              <a:ext cx="1571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57680" y="3749760"/>
              <a:ext cx="0" cy="552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2662200" y="3736440"/>
              <a:ext cx="0" cy="582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93960" y="1519920"/>
              <a:ext cx="10126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en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fe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108160" y="3244680"/>
              <a:ext cx="2508120" cy="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19520" y="3861360"/>
              <a:ext cx="10126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cess /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y p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819520" y="4394160"/>
              <a:ext cx="1936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60920" y="2705040"/>
              <a:ext cx="1160280" cy="1100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51720" y="2889720"/>
              <a:ext cx="74592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i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int 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2908440" y="1405080"/>
              <a:ext cx="0" cy="583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546960" y="1219320"/>
              <a:ext cx="1160280" cy="1100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04200" y="1384560"/>
              <a:ext cx="10126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vered b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lay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70560" y="2717640"/>
              <a:ext cx="1577880" cy="1003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372360" y="3389400"/>
              <a:ext cx="1571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738920" y="2724120"/>
              <a:ext cx="0" cy="657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6605640" y="2690640"/>
              <a:ext cx="0" cy="689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24800" y="2772720"/>
              <a:ext cx="101268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cess / T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ver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3508560"/>
              <a:ext cx="1936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427640" y="4527720"/>
              <a:ext cx="1577880" cy="100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29080" y="5199120"/>
              <a:ext cx="1571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96000" y="4533840"/>
              <a:ext cx="0" cy="657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819680" y="4582440"/>
              <a:ext cx="101268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cess / T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ver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662360" y="4521240"/>
              <a:ext cx="0" cy="689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857840" y="5299200"/>
              <a:ext cx="1936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19240" y="2070360"/>
              <a:ext cx="1936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65160" y="2705040"/>
              <a:ext cx="1160640" cy="1100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140120" y="2889720"/>
              <a:ext cx="7779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qui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int 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ch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51560" y="4152960"/>
              <a:ext cx="1160640" cy="1100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508800" y="4337280"/>
              <a:ext cx="10126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in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vered b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s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993680"/>
            <a:ext cx="777240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vantGarde Md BT"/>
              </a:rPr>
              <a:t>Eight Process Design Principles </a:t>
            </a:r>
            <a:endParaRPr b="1" lang="en-US" sz="6000" spc="-1" strike="noStrike">
              <a:solidFill>
                <a:srgbClr val="ffffff"/>
              </a:solidFill>
              <a:latin typeface="AvantGarde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nciple I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8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design is a design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ly creative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499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, copy, and adapt best prac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ly iterative in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cost/performance/benefit/risk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499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499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ne single 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omplete until specifications ar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nciple II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31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design expertise is made up of a set of skills and the knowledge of how to apply those skills opportunist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 management /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 difference between requirements and design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flow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 not necessarily made in a linear fash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result in multiple alternatives that are subject to tradeoff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nciple III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59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design” plays a central role in the process de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s and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state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“quality”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nciple IV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0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es must be specified to a level that can allow allocation to specific resources available in the execution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ition into sub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on condition of process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es will change as the skills and capabilities of the people and machines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nciple V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3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and logical input/output contiguity must be maintained (Conservation Law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/output of each process unit must be specified and matched with the input available and the output required at the position of the process unit in the proces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dependent on objec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nciple VI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1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ill always be failures that must be addr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mode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mod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detection sub process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handling sub process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ustness relative to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DEF3 Overview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 1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Elements of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 2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ing the Proc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 3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ing the Proc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advTm="3000" p14:dur="2000"/>
    </mc:Choice>
    <mc:Fallback>
      <p:transition spd="slow" advTm="3000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nciple VII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7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design includes the design of process steps for by-product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te or sc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nciple VIII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57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design includes design of process steps and objects for execution coordination and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t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tem priori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, performance, traceability,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vantGarde Md BT"/>
              </a:rPr>
              <a:t>IDEF3 Models</a:t>
            </a:r>
            <a:endParaRPr b="1" lang="en-US" sz="60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2057400" y="4572000"/>
            <a:ext cx="6400800" cy="103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d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ild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444600" y="1427040"/>
            <a:ext cx="82803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15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ading IDEF3 Model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63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the context, purpose, and viewpoint to understand the scope of the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process flow diagrams from left to right, starting with the leftmost process(es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a diagram in this manner is called “performing a walkthrough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e carefully the description and elaboration form of each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473040" y="1657440"/>
            <a:ext cx="82803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15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ilding IDEF3 Model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391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 an XOR fan-out junction with an AND fan-in j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multiple leftmost processes in a diagram: their interpretation is ambiguo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285840">
              <a:spcBef>
                <a:spcPts val="499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fan-out junction preceding the multiple leftmost processes to clarify the process flo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possible, avoid nested fan-out junctions to simplify dia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601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n-out junction immediately following a fan-in junction can indicate a missing process in the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79320" y="1160640"/>
            <a:ext cx="364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ractical guidelines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3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F3 documents current processes for standardization and provides guidelines for new process members to reduce the learning cu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F3 provides a mechanism to capture the temporal sequence of a process, the decision logic effecting the process, and the state transitions of objects within th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F3 serves as a tool to analyze existing processes and design and test new processes before embarking on expensive chang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DEF3 Process Model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700"/>
              </a:spcBef>
              <a:buClr>
                <a:srgbClr val="00808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&amp;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0920"/>
            <a:ext cx="7772400" cy="28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vantGarde Md BT"/>
              </a:rPr>
              <a:t>Basic Elements of the Process Diagram</a:t>
            </a:r>
            <a:endParaRPr b="1" lang="en-US" sz="6000" spc="-1" strike="noStrike">
              <a:solidFill>
                <a:srgbClr val="ffffff"/>
              </a:solidFill>
              <a:latin typeface="AvantGarde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057400" y="4571640"/>
            <a:ext cx="6400800" cy="13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k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c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advTm="10000" p14:dur="2000"/>
    </mc:Choice>
    <mc:Fallback>
      <p:transition spd="slow" advTm="10000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46160"/>
            <a:ext cx="9067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ements of a Diagram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46240" y="1197000"/>
            <a:ext cx="4114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5T15:40:16Z</dcterms:created>
  <dc:creator/>
  <dc:description/>
  <cp:keywords/>
  <dc:language>en-US</dc:language>
  <cp:lastModifiedBy>Pasquale</cp:lastModifiedBy>
  <cp:lastPrinted>1995-02-21T07:17:02Z</cp:lastPrinted>
  <dcterms:modified xsi:type="dcterms:W3CDTF">2006-03-22T17:25:28Z</dcterms:modified>
  <cp:revision>79</cp:revision>
  <dc:subject/>
  <dc:title>Process Modeling with IDEF3</dc:title>
</cp:coreProperties>
</file>