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416-67F7-4DDC-9BE6-C67F6E13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EFF-39CA-4381-A096-8A865E4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754-FFAD-43F1-8E95-F1169917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20F-80BE-44CF-BDA2-D60C8CF5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9B2-3853-4DE1-AF57-57790FD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74D-AA2C-42F0-BA30-40348FB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0DB-621E-4E75-88D5-03591EA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E0A-18F8-4C0D-AE2A-DC4655DE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E32-27B0-4680-AFC7-C3DA0717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72E-E386-432A-B922-F98C10B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425-9F56-46B8-823F-8CCE9F6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719-D401-4567-92FC-A41C834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407-CBFF-4E7D-B6B0-82044B2C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bjects and properties of simulated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ello di simulazione è uno strumento in grado di elaborare informazioni e dati disponibili per aggiungerne di nuovi a quelli esistenti e di prevedere le risposte di un sistema reale a determinati input divenendo così un efficace supporto in processi di analisi, valutazione di performance e decisi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uo utilizzo è indicato in tutte quelle situazioni in cui le sperimentazioni su sistemi reali, o non ancora esistenti, possono essere distruttive, non costo-efficaci o impossi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Developm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676520"/>
          <a:ext cx="72388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- behavior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- Physic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o be simulated - aspect of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as a physical object o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ys natural (possibly known)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s predictably to inputs (control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observed (observ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representation of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built by engineering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 experi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verified (correct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s behavior for known inputs (vali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of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affec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tim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tatistic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s random vari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rival time, arrival rat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is random vari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umber, siz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queu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s to a statistic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ervi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attributes may chang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operator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customers and shopping baskets, arrival times,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queue lengths, number being serv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checked-ou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simulated with actual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system behavior under various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various propo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various operat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Kanba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imula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commercial simulation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basic business processes with que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simul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a 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ing 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imul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intra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dependenc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f time scal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trac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models (queuing probl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too complex (combinator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ic details wanted (distribu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methods inadequ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eady state solutions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cal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hort times - expand (microscop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arket trading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long times - compress (macroscop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ales in slowly grow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- Business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is a sequence of activities assembled to accomplish one or more goals of th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ole process cannot be sim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of interest must b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s to be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s to be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models to be 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s to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or mathematical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statistical i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of entities (customer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tatistical (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ing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of inputs (increase queue 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of queued inputs (decrease que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of system or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(time, number, 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s (service time,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LIZZAZIONE DEL SIST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QUISIZIONE ED ANALISI D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STRUZIONE, VERIFICA DEL MODELLO CONCETTU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STRUZIONE DEL MODELLO DI SIMUL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ERIF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ID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ERIMENT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ALISI DEI RISULT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CUMENTAZIONE E PRESENTAZIONE RISULT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LEMENTAZIONE SUL SISTEMA RE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of 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is the determination that the model and simulation are operating in the manner intended -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imulation program is correct and is correctly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 processo di determinazione che l’implementazione del modello rappresenta accuratamente la descrizione concettuale e le specifiche dello sviluppatore. Viene svolta continuamente durante lo svilup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is the determination that the simulated system closely approximates the real system for the given 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l processo di determinazione del grado con cui un modello è una accurata rappresentazione del mondo reale concordemente con gli obiettivi e per gli usi con cui è stato proget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 goal(s) of th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invested capital to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events occur due to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events have probabilities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costs associated with los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- probability of loss event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- cost of loss event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- number of types of los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46483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98400" y="3695760"/>
          <a:ext cx="7342200" cy="22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3695760"/>
                    <a:ext cx="73422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s to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loss costs over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imulation to find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imulation to 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 and spread insurance cost over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ake on continuou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y ordinary differential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mass/energy flow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ake on discre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y difference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queuing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is the study of a process through observation of the behavior of a model over time in response to a pattern of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7:23:05Z</dcterms:created>
  <dc:creator>babbage_giacomo</dc:creator>
  <dc:description/>
  <dc:language>en-US</dc:language>
  <cp:lastModifiedBy>babbage_giacomo</cp:lastModifiedBy>
  <dcterms:modified xsi:type="dcterms:W3CDTF">2004-03-22T17:23:30Z</dcterms:modified>
  <cp:revision>1</cp:revision>
  <dc:subject/>
  <dc:title>Overview</dc:title>
</cp:coreProperties>
</file>