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FE9-B4E4-4E83-A072-36FFEE04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109-616F-45B5-A0E7-532687BF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26C-17BF-4199-889C-E3085D69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6FCA-BE37-47BE-B0F6-1149D423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5E3E-01CD-4675-9729-8E6EDA7A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F016-050C-4517-8FA2-42678D46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A13C-A7D4-4961-BC1A-10A59892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930-B51E-41DE-974C-0E328D78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B8AD-E741-4D1B-B122-7F20F24E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560-2CF4-4211-B6C6-B0A806D9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52E-C571-40D3-939F-48603553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EE01-23DB-4398-874A-437A659B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F366-70C7-4AC8-9815-E0E8DD301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take on continuous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by ordinary differential equ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ample: mass/energy flow syst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take on discret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by difference equ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ample: queuing syst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cation is the determination that the model and simulation are operating in the manner intended - that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g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imulation program is correct and is correctly implem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l processo di determinazione che l’implementazione del modello rappresenta accuratamente la descrizione concettuale e le specifiche dello sviluppatore. Viene svolta continuamente durante lo svilupp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ation of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is the determination that the simulated system closely approximates the real system for the given sc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l processo di determinazione del grado con cui un modello è una accurata rappresentazione del mondo reale concordemente con gli obiettivi e per gli usi con cui è stato progett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: suppo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O PER DIVERSI APPROCCI AL CAMBIAM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QM (manufacturing-oriented): flussi fis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T (manufacturing-oriented): flussi fis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PR: flussi informativi predominanti/flussi fis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INNOVATION: flussi informa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MANAGEMENT: flussi informa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tag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o possibili indagini che non causano perturbazioni ai sistemi esist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o di comprensione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tura di fenomeni aleatori che incidono sulle prest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ansione/Compressione del tempo simu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o spesso più convincenti e più comprensibili rispetto le formulazioni matema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ti crit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o apprendimento di tecniche e strumenti (tempo apprendimento e svilupp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nzioni critiche: scostamento insoddisfacente dalla real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i di interpretazione di risultati e loro corrette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llo di dettaglio ecces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zione ca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menti inada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Mode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82812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of interest, processed by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customers, data packets, forms, product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ties have attributes - can affect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 size, color,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ival times collected during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ggregated or transform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components-to-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 ENTITIES: svilupp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ENTITIES: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es are properties of 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for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ival rates &amp; distributions, sizes, color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ffect service times &amp;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ffect direction of entity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have logical values (active, inactive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i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y of an entity into process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 (repetitive at time interv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ampling every 100th entity for Q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d (one-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rrival time governed by distributio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y governed by distributio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ggered by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, logical condition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ies/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performed by queue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ime or creat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what happens to entities in tim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d with process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depend upon attributes of 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grocery line checkout (quantity attribu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irline ticket class (Q.O.S. attribu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is the study of a process through observation of the behavior of a model over time in response to a pattern of inpu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xiliary personnel or material used to process 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dow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d (determinis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cheduled (statist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epleted and require renewal/recyc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of triggering type (Kanban c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have parameters (rates of delivery, sizes,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times and Risk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959200" y="3611520"/>
          <a:ext cx="5486400" cy="10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9200" y="3611520"/>
                    <a:ext cx="548640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48120" y="495288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MTTR reduces loss due to outag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14400" y="1676520"/>
          <a:ext cx="5181480" cy="10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518148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50920" y="5877000"/>
            <a:ext cx="856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TBF = Mean Time Between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TTR = Mean Time to Re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s taken by entities in a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d (fix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(probability distrib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(capacity limit, failure ev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ttributes (speed, capacity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disabled due to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entity transit time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 Time D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path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rate of movem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3429000"/>
            <a:ext cx="4572000" cy="838080"/>
          </a:xfrm>
          <a:prstGeom prst="rect">
            <a:avLst/>
          </a:prstGeom>
          <a:solidFill>
            <a:srgbClr val="00beb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Time = Distance/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 of variables needed to describe the system - predict its behavior in the future in response to input (what you would need to save to resume after stop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busy tellers, number of queued customers, number of customers being serve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stantaneous occurrence that can alter the state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ogen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ctivities external to the system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ogen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ctivities internal to the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completion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ituent parts of a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elements, subsystem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process elements or sub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elements requir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ystems require expansion to the level of process elements before models can be en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ies that can take on arbitrary values, to be assigned by the operator of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rrival rates, maximum queue length, service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 constant for duration of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rrival models and statistical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service times or rates and model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ies that can assume only those values permitted by the form of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length of queue, number of customers being serve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- input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 to their sourc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- process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 to laws of proces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al description of the physical behavior of the dependent variables (outputs) for the given parameters, initial state, and inputs (independent variab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modeled by exponential service time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flow splitting, batching, assembl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Simulati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modello di simulazione è uno strumento in grado di elaborare informazioni e dati disponibili per aggiungerne di nuovi a quelli esistenti e di prevedere le risposte di un sistema reale a determinati input divenendo così un efficace supporto in processi di analisi, valutazione di performance e decisio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tions placed upon the permitted values of variables or upon the allocation of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maximum queue length, maximum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minimum interarriv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Queu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 to the statistics of queuing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Queu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/M/1 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58690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/M/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= number of serv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=Servic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=exponent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=gene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deterministic (cons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= Arrivals: Poisson (Markov)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2590920"/>
            <a:ext cx="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27672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2590920"/>
            <a:ext cx="0" cy="2209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259092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819520"/>
            <a:ext cx="685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s item from queue for service, when server is not bu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time is statis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upon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upon length of servic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s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til service complete (service completion ev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ervers are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-Server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8687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spooler (single queue and ser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office (single queue, multiple serv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line ticket lines (multiple queues, multiple servers on some queu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uing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5185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archic Simulation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-down model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highest layer (main oper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se in terms of sub-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els in lowes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names of operations at each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mes at each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a Proces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ival process (statisti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process (statisti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suo utilizzo è indicato in tutte quelle situazioni in cui le sperimentazioni su sistemi reali, o non ancora esistenti, possono essere distruttive, non costo-efficaci o impossi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iva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t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e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ivals with Time St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19810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ival times and interarrival intervals for car wash – field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2573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l velocity o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e dep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(drawbridge openin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(warehouse fork lif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u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ipline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ic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used (typ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downtimes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es per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t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model to serve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e data appropriate to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with respect to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cess developmen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bustness/limitations of the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cess optimiz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ptimize system performance - minimize operating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cess alternativ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 improvements, sensitivity analysis, reduction resource related processing costs, delays, inven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8230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fixed (sele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s fixed (best fit to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s varied (to change outpu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s varied (get desired resul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ness/limitations of the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of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reliable deliver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y bottlene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alternatives to reduce lea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d reduce possible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8230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s fixed (field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fixed (sele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s varied (optimize outpu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s varied (to produce best resul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system performance - minimize operating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ation (Operatio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odel and inpu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some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simulation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parameter adjustment to optim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8230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s fixed (field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varied (for best resul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s varied (for best 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s varied (best resul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improvements, sensitivity analysis, reduction resource related processing costs, delays, inven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 Formul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spect is to be simul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laws govern its behavi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orm should simulation t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aptur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torage (often large fi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ting of distributions &amp;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udy Objectiv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be the resul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ill be the expected benef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ill be the users of the res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Mod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natural laws are represen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ssumptions, goals, meas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boundary (limiting) condi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orm (package, languag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it to be valid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Data Collec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ata (how much, what typ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of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execu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ndi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proces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reci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orm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 Development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90720" y="1676520"/>
          <a:ext cx="7238880" cy="37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23888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od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 or langu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peed desi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 eff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orien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nterfa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Verific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this be accomplish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of random number genera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of time function inpu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of traffic generation mod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data gathered (observation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physical un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of predicted valu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Experimental Desig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bserv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validate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validate the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nalysis of Resul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results make s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ime/physical scale (detail) appropri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nferences can be dra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further studie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Document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models be documen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results be presen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all for further stud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IETTIVO: STUDIO DI OBIETTIVI REALIZZABILI NEL MONDO REALE (NON LA MODELLAZIONE IN 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 in ESPERIMENTI (differenze nella logica o nei dati del model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RIMENTO: consiste in REPLICAZIONI (stessa logica ma con la generazione di un insieme diverso di numeri casu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: fase tra l’avvio e l’arresto della singola replic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eri di proget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intero sistema è scomponibile in più pa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te e distinguibili rappresentative di specifiche fun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SSIBI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à di modificare agevolmente parametri e blocchi logici che condizionano il funzionamento del mode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BI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mbio automatico dei dati con altri applic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FINIZIONE DEL SISTE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CQUISIZIONE ED ANALISI DAT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STRUZIONE, VERIFICA DEL MODELLO CONCETTUA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STRUZIONE DEL MODELLO DI SIMULAZI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ERIFIC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IDAZI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ERIMENTAZI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NALISI DEI RISULTAT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CUMENTAZIONE E PRESENTAZIONE RISULTAT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MPLEMENTAZIONE SUL SISTEMA REA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17:24:32Z</dcterms:created>
  <dc:creator>babbage_giacomo</dc:creator>
  <dc:description/>
  <dc:language>en-US</dc:language>
  <cp:lastModifiedBy>Pasquale</cp:lastModifiedBy>
  <dcterms:modified xsi:type="dcterms:W3CDTF">2004-03-23T14:45:21Z</dcterms:modified>
  <cp:revision>4</cp:revision>
  <dc:subject/>
  <dc:title>System Types</dc:title>
</cp:coreProperties>
</file>