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67A3-0190-41D5-A60D-97A932D42AC1}" type="slidenum">
              <a:rPr b="0" lang="it-IT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9E0-6F2C-4C1F-85F1-21A48E4F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11D-1D81-4335-A14D-50B0D494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25E-1EA6-4B7D-8BB0-01645A4A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027A-90DD-4CAE-A770-14B1C569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766-8941-45A2-A1E5-4D563FE9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B5F-F2A5-4826-87C4-749849A6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4DC-19F7-4FF2-9EEE-324AF38C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ED0-E47B-42BA-8BF6-6638385E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E6DC-636C-4ED1-A3AB-4B8D4869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59A-A1A8-4FFF-838B-C105FB56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9A7-7FFD-46A0-BB56-E7B4E5A5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1FD-D978-401D-AB88-DE4EE850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33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998C-34C9-4879-AA2B-34C293424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inambiente.it/Sito/settori_azione/iar/FontiRinnovabili/ragazzi/parco_giochi.htm" TargetMode="External"/><Relationship Id="rId2" Type="http://schemas.openxmlformats.org/officeDocument/2006/relationships/hyperlink" Target="http://www.minambiente.it/Sito/settori_azione/iar/FontiRinnovabili/ragazzi/parco_giochi.htm" TargetMode="External"/><Relationship Id="rId3" Type="http://schemas.openxmlformats.org/officeDocument/2006/relationships/hyperlink" Target="http://www.minambiente.it/Sito/settori_azione/iar/FontiRinnovabili/ragazzi/parco_giochi.htm" TargetMode="External"/><Relationship Id="rId4" Type="http://schemas.openxmlformats.org/officeDocument/2006/relationships/hyperlink" Target="http://www.minambiente.it/Sito/settori_azione/iar/FontiRinnovabili/ragazzi/parco_giochi.htm" TargetMode="External"/><Relationship Id="rId5" Type="http://schemas.openxmlformats.org/officeDocument/2006/relationships/hyperlink" Target="http://www.minambiente.it/Sito/settori_azione/iar/FontiRinnovabili/ragazzi/parco_giochi.htm" TargetMode="External"/><Relationship Id="rId6" Type="http://schemas.openxmlformats.org/officeDocument/2006/relationships/hyperlink" Target="http://www.minambiente.it/Sito/settori_azione/iar/FontiRinnovabili/ragazzi/parco_giochi.htm" TargetMode="External"/><Relationship Id="rId7" Type="http://schemas.openxmlformats.org/officeDocument/2006/relationships/hyperlink" Target="http://www.minambiente.it/Sito/settori_azione/iar/FontiRinnovabili/ragazzi/parco_giochi.htm" TargetMode="External"/><Relationship Id="rId8" Type="http://schemas.openxmlformats.org/officeDocument/2006/relationships/hyperlink" Target="http://www.minambiente.it/Sito/settori_azione/iar/FontiRinnovabili/ragazzi/parco_giochi.htm" TargetMode="External"/><Relationship Id="rId9" Type="http://schemas.openxmlformats.org/officeDocument/2006/relationships/hyperlink" Target="http://www.minambiente.it/Sito/settori_azione/iar/FontiRinnovabili/ragazzi/parco_giochi.htm" TargetMode="External"/><Relationship Id="rId10" Type="http://schemas.openxmlformats.org/officeDocument/2006/relationships/hyperlink" Target="http://www.minambiente.it/Sito/settori_azione/iar/FontiRinnovabili/ragazzi/parco_giochi.htm" TargetMode="External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33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cc99"/>
                </a:solidFill>
                <a:latin typeface="Comic Sans MS"/>
              </a:rPr>
              <a:t>Il pannello sol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uola “Mahatma Gandhi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lesso via Fabri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lasse IV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aestr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essandra Trig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ilda Paragg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dia Coz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a collaborato Simona Arcel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ar27%2324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828800" y="609480"/>
            <a:ext cx="546732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mic Sans MS"/>
              </a:rPr>
              <a:t>Il pannello solar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33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na lastra di ve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ar26%2314" descr=""/>
          <p:cNvPicPr/>
          <p:nvPr/>
        </p:nvPicPr>
        <p:blipFill>
          <a:blip r:embed="rId1"/>
          <a:srcRect l="0" t="23334" r="22501" b="0"/>
          <a:stretch/>
        </p:blipFill>
        <p:spPr>
          <a:xfrm>
            <a:off x="1828800" y="2286000"/>
            <a:ext cx="4724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33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Comic Sans MS"/>
              </a:rPr>
              <a:t>Fasi della costruzione del pannello solar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438280"/>
            <a:ext cx="3124440" cy="3989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bbiamo foderato la scatola  con la carta 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oi l’abbiamo ricoperto di carta di gior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Mar27%2325" descr=""/>
          <p:cNvPicPr/>
          <p:nvPr/>
        </p:nvPicPr>
        <p:blipFill>
          <a:blip r:embed="rId1"/>
          <a:srcRect l="3636" t="7272" r="14546" b="0"/>
          <a:stretch/>
        </p:blipFill>
        <p:spPr>
          <a:xfrm>
            <a:off x="4648320" y="2590920"/>
            <a:ext cx="34290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33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In giardin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3880"/>
            <a:ext cx="4343400" cy="5026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biamo messo il termometro nella scato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biamo coperto la scatola con una lastra di ve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biamo orientato la scatola verso il s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biamo aspettato 15 minuti circa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ar28%2339" descr=""/>
          <p:cNvPicPr/>
          <p:nvPr/>
        </p:nvPicPr>
        <p:blipFill>
          <a:blip r:embed="rId1"/>
          <a:srcRect l="21213" t="41559" r="16884" b="0"/>
          <a:stretch/>
        </p:blipFill>
        <p:spPr>
          <a:xfrm>
            <a:off x="4724280" y="2514600"/>
            <a:ext cx="419112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33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Il giorno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 dopo in clas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286000"/>
            <a:ext cx="4114800" cy="3746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biamo acceso la lampada sul pannel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ima senza vetro e poi con il ve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biamo aspettato 10 minu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Mar28%2342" descr=""/>
          <p:cNvPicPr/>
          <p:nvPr/>
        </p:nvPicPr>
        <p:blipFill>
          <a:blip r:embed="rId1"/>
          <a:srcRect l="0" t="46465" r="30302" b="0"/>
          <a:stretch/>
        </p:blipFill>
        <p:spPr>
          <a:xfrm>
            <a:off x="4572000" y="1295280"/>
            <a:ext cx="3886200" cy="2238480"/>
          </a:xfrm>
          <a:prstGeom prst="rect">
            <a:avLst/>
          </a:prstGeom>
          <a:ln w="0">
            <a:noFill/>
          </a:ln>
        </p:spPr>
      </p:pic>
      <p:pic>
        <p:nvPicPr>
          <p:cNvPr id="86" name="Mar28%2345" descr=""/>
          <p:cNvPicPr/>
          <p:nvPr/>
        </p:nvPicPr>
        <p:blipFill>
          <a:blip r:embed="rId2"/>
          <a:srcRect l="-1250" t="0" r="8749" b="10001"/>
          <a:stretch/>
        </p:blipFill>
        <p:spPr>
          <a:xfrm>
            <a:off x="4800600" y="3733920"/>
            <a:ext cx="3809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33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Comic Sans MS"/>
              </a:rPr>
              <a:t>La tabella dei risultat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4920" y="2057400"/>
          <a:ext cx="8534160" cy="4184640"/>
        </p:xfrm>
        <a:graphic>
          <a:graphicData uri="http://schemas.openxmlformats.org/drawingml/2006/table">
            <a:tbl>
              <a:tblPr/>
              <a:tblGrid>
                <a:gridCol w="2743200"/>
                <a:gridCol w="2235240"/>
                <a:gridCol w="1777680"/>
                <a:gridCol w="177804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ogo     esperi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inizi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me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fin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ardino con ve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po15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asse lampada senza ve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,4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po10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,5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asse lampada con ve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po 4’ 39,5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po 6’ 42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33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Conclusion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2666880"/>
            <a:ext cx="7284960" cy="3571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È possibile catturare la luce e il calore ed intrappolarl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La temperatura all’interno della scatola sale rapidamente determinando “l’effetto serra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33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Il nostro cammin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676520"/>
            <a:ext cx="7743960" cy="51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ffondamento della petroliera “Prestige” sulle coste della Galiz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Visita al treno verde alla stazione Termi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Navigazione nel sito del ministero dell’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www.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minambiente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.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it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Comic Sans MS"/>
                <a:hlinkClick r:id="rId5"/>
              </a:rPr>
              <a:t>/Sito/settori_azione/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Comic Sans MS"/>
                <a:hlinkClick r:id="rId6"/>
              </a:rPr>
              <a:t>iar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Comic Sans MS"/>
                <a:hlinkClick r:id="rId7"/>
              </a:rPr>
              <a:t>/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Comic Sans MS"/>
                <a:hlinkClick r:id="rId8"/>
              </a:rPr>
              <a:t>FontiRinnovabili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Comic Sans MS"/>
                <a:hlinkClick r:id="rId9"/>
              </a:rPr>
              <a:t>/ragazzi/parco_giochi.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Comic Sans MS"/>
                <a:hlinkClick r:id="rId10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33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ggi: il petroli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905120"/>
            <a:ext cx="7010280" cy="46173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l petrolio è una fonte di energia non rinnovab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l petrolio serve per produr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terie plast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carburanti per motori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’ energia elett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l petrolio si è formato tantissimi anni f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3720" y="609480"/>
            <a:ext cx="495288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669900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Oggi: il petroli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669900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33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ffff"/>
                </a:solidFill>
                <a:latin typeface="Times New Roman"/>
              </a:rPr>
              <a:t>Doma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2286000"/>
            <a:ext cx="7239240" cy="41907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tremo usare di meno il petrol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 potremo utilizzare le fonti di energia rinnovabil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ia so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ia eo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ia idroelet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ia geoterm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743200" y="609480"/>
            <a:ext cx="4267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Domani….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33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Comic Sans MS"/>
              </a:rPr>
              <a:t>Noi 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438280"/>
            <a:ext cx="4648320" cy="3760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……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abbiamo  fatto un esperim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 conoscere meglio la potenza del sole abbiamo  realizzato un pannello solare con materiale pov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O01038_" descr=""/>
          <p:cNvPicPr/>
          <p:nvPr/>
        </p:nvPicPr>
        <p:blipFill>
          <a:blip r:embed="rId1"/>
          <a:stretch/>
        </p:blipFill>
        <p:spPr>
          <a:xfrm>
            <a:off x="5370480" y="2666880"/>
            <a:ext cx="2727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33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bbiamo usa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Mar26%2309" descr=""/>
          <p:cNvPicPr/>
          <p:nvPr/>
        </p:nvPicPr>
        <p:blipFill>
          <a:blip r:embed="rId1"/>
          <a:srcRect l="0" t="28070" r="17461" b="0"/>
          <a:stretch/>
        </p:blipFill>
        <p:spPr>
          <a:xfrm>
            <a:off x="609480" y="2362320"/>
            <a:ext cx="396252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851440" y="316548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1240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a scatola di cart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33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i fogli di carta ne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Mar26%2311" descr=""/>
          <p:cNvPicPr/>
          <p:nvPr/>
        </p:nvPicPr>
        <p:blipFill>
          <a:blip r:embed="rId1"/>
          <a:srcRect l="0" t="16667" r="0" b="8333"/>
          <a:stretch/>
        </p:blipFill>
        <p:spPr>
          <a:xfrm>
            <a:off x="1219320" y="2666880"/>
            <a:ext cx="609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33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che foglio di  carta di giorn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Mar26%2312" descr=""/>
          <p:cNvPicPr/>
          <p:nvPr/>
        </p:nvPicPr>
        <p:blipFill>
          <a:blip r:embed="rId1"/>
          <a:srcRect l="0" t="0" r="0" b="36667"/>
          <a:stretch/>
        </p:blipFill>
        <p:spPr>
          <a:xfrm>
            <a:off x="1600200" y="2362320"/>
            <a:ext cx="6095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33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66920" y="228240"/>
            <a:ext cx="3048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Un termometro </a:t>
            </a:r>
            <a:br>
              <a:rPr sz="4000"/>
            </a:b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Una lampada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Mar28%2340" descr=""/>
          <p:cNvPicPr/>
          <p:nvPr/>
        </p:nvPicPr>
        <p:blipFill>
          <a:blip r:embed="rId1"/>
          <a:srcRect l="6250" t="75000" r="6250" b="0"/>
          <a:stretch/>
        </p:blipFill>
        <p:spPr>
          <a:xfrm>
            <a:off x="152280" y="914400"/>
            <a:ext cx="5334120" cy="1143000"/>
          </a:xfrm>
          <a:prstGeom prst="rect">
            <a:avLst/>
          </a:prstGeom>
          <a:ln w="0">
            <a:noFill/>
          </a:ln>
        </p:spPr>
      </p:pic>
      <p:pic>
        <p:nvPicPr>
          <p:cNvPr id="73" name="Apr01%2364" descr=""/>
          <p:cNvPicPr/>
          <p:nvPr/>
        </p:nvPicPr>
        <p:blipFill>
          <a:blip r:embed="rId2"/>
          <a:srcRect l="33749" t="33334" r="14999" b="0"/>
          <a:stretch/>
        </p:blipFill>
        <p:spPr>
          <a:xfrm>
            <a:off x="1981080" y="3352680"/>
            <a:ext cx="3124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09:44:54Z</dcterms:created>
  <dc:creator>FABRIANO</dc:creator>
  <dc:description/>
  <dc:language>en-US</dc:language>
  <cp:lastModifiedBy>FABRIANO</cp:lastModifiedBy>
  <dcterms:modified xsi:type="dcterms:W3CDTF">2003-04-07T11:02:49Z</dcterms:modified>
  <cp:revision>34</cp:revision>
  <dc:subject/>
  <dc:title>Presentazione di PowerPoint</dc:title>
</cp:coreProperties>
</file>