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D1F-53DA-4380-B0C7-D21C3EA2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C01-9571-457D-96CC-0F22AC6F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064-A081-47B4-B514-D3AAE653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9A9-7349-4169-9F18-5835278A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12C-DE6D-42F1-998C-0718C40A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0BF-E601-4991-8757-EFBAEA8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649-ECFE-4EAD-A5CA-3EA6A55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579-953D-4173-A9BF-70D800F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C54-48D2-4C70-A67E-4E90FFC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C28-C904-4155-949D-8A9A8A5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C1F-5987-491D-9F0A-6F78F53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B23-D7A0-45A9-A577-603AA2F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07E-3BF4-49D8-BE6C-3DBD4615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pioggia%20neve%20grandine.doc" TargetMode="External"/><Relationship Id="rId3" Type="http://schemas.openxmlformats.org/officeDocument/2006/relationships/hyperlink" Target="file:///esperimento%20dl%20ghiaccio.doc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%20corpi%20galleggianti.doc" TargetMode="External"/><Relationship Id="rId3" Type="http://schemas.openxmlformats.org/officeDocument/2006/relationships/hyperlink" Target="file:///I%20corpi%20galleggianti.doc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%20fenomeni%20atmosferici.doc" TargetMode="External"/><Relationship Id="rId3" Type="http://schemas.openxmlformats.org/officeDocument/2006/relationships/hyperlink" Target="file:///i%20fenomeni%20atmosferici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l%20giorno%20e%20le%20notte.doc" TargetMode="External"/><Relationship Id="rId3" Type="http://schemas.openxmlformats.org/officeDocument/2006/relationships/hyperlink" Target="file:///Il%20giorno%20e%20le%20notte.doc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hyperlink" Target="file:///L&apos;acqua.doc" TargetMode="External"/><Relationship Id="rId6" Type="http://schemas.openxmlformats.org/officeDocument/2006/relationships/hyperlink" Target="file:///L&apos;acqua.doc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hyperlink" Target="file:///il%20fiume.doc" TargetMode="External"/><Relationship Id="rId4" Type="http://schemas.openxmlformats.org/officeDocument/2006/relationships/hyperlink" Target="file:///il%20fiume.doc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052280"/>
            <a:ext cx="6173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auhaus 93"/>
              </a:rPr>
              <a:t>Giocando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00536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933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auhaus 93"/>
              </a:rPr>
              <a:t>impa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Di cosa è fatta la ne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36044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0800000">
            <a:off x="7308720" y="170028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 saperne di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2997360"/>
            <a:ext cx="3816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Bauhaus 93"/>
                <a:hlinkClick r:id="rId3"/>
              </a:rPr>
              <a:t>L’esper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989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9034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Perché le barche gallegg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805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Ecco nostri esperimenti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057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274320"/>
            <a:ext cx="302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...all’aria ap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9720" y="2349360"/>
            <a:ext cx="20354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9640" y="76320"/>
            <a:ext cx="5186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e in cucina,  per capire cosa succede mentre l’acqua bol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667480"/>
            <a:ext cx="49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95636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19640" y="-244800"/>
            <a:ext cx="1800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Sezione D della scuola dell’infanzia di Via Corinal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Insegna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ntonella Rossi Annamaria Sagg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Il progetto è stato ideato da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ntonella Rossi e Luisella Calca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resentazione realizzata dall’insegnante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lessandra Trig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4842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SCUOLA STATALE DELL'INFANZ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CUOLA ELEMENTARE STA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"MAHATMA GANDHI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1619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Bauhaus 93"/>
              </a:rPr>
              <a:t>Le stagio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120960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5400000">
            <a:off x="972000" y="5228280"/>
            <a:ext cx="1079280" cy="1655640"/>
          </a:xfrm>
          <a:prstGeom prst="wedgeRoundRectCallout">
            <a:avLst>
              <a:gd name="adj1" fmla="val -21324"/>
              <a:gd name="adj2" fmla="val -87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5394240"/>
            <a:ext cx="122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87700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48496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cco come abbiamo realizzato i nostri al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Stiamo dipigendo le chiome di verde  e di marrone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97000" cy="522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43560" y="1628640"/>
            <a:ext cx="3836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71280"/>
            <a:ext cx="4932360" cy="659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1628640"/>
            <a:ext cx="288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.e qui stiamo dipigendo i                       tronch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IL GIORNO E LA NO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80360" y="2276640"/>
            <a:ext cx="1403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6491160"/>
            <a:ext cx="62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093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609300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.. SE LA TERRA FOSSE UN GOMITOLO E IL SOLE UNA LAMPADINA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4000" y="1041480"/>
            <a:ext cx="6922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LLA NOSTRA SCUOLA PU0’ SUCCED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59280" y="404640"/>
            <a:ext cx="2933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57240">
                  <a:solidFill>
                    <a:srgbClr val="0033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auhaus 93"/>
              </a:rPr>
              <a:t>L' A C Q U A</a:t>
            </a:r>
            <a:endParaRPr b="0" lang="en-US" sz="6000" spc="1" strike="noStrike">
              <a:ln w="57240">
                <a:solidFill>
                  <a:srgbClr val="0033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auhaus 93"/>
              <a:ea typeface="Bauhaus 93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80360" y="4653000"/>
            <a:ext cx="884160" cy="145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2276640"/>
            <a:ext cx="1511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Per sap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71640" y="1916280"/>
            <a:ext cx="504036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33336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3336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Bauhaus 93"/>
              </a:rPr>
              <a:t>IL FIU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84960" y="2401920"/>
            <a:ext cx="1619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er sap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0920" y="2090880"/>
            <a:ext cx="686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0:34:07Z</dcterms:created>
  <dc:creator>ALE</dc:creator>
  <dc:description/>
  <dc:language>en-US</dc:language>
  <cp:lastModifiedBy>FABRIANO</cp:lastModifiedBy>
  <dcterms:modified xsi:type="dcterms:W3CDTF">2004-01-15T16:20:40Z</dcterms:modified>
  <cp:revision>79</cp:revision>
  <dc:subject/>
  <dc:title>Per saperne un po’ di…</dc:title>
</cp:coreProperties>
</file>