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8489-45C1-4ED6-974B-40806A19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14E2-F01D-4587-A781-88F99CC0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4D7-614B-4887-B257-760EE3AF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5E0C-7F3F-488C-BAEA-8795510B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F016-2DE2-4A4F-859A-D192D24C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0255-9AF4-43DF-95CD-4BD2FCB5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5DD9-FAC8-4B70-BB05-68094531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57E4-E03E-4F15-90FB-356EC386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D63F-9EC2-4E30-B953-7DEE1B58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F198-7DD6-411C-AD83-4C18E588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25FA-8698-48DF-AA68-FD66C321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903D-CF84-4616-A5EF-D7900A35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0115-9F36-44A0-B97F-C9917DCFA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pioggia%20neve%20grandine.doc" TargetMode="External"/><Relationship Id="rId3" Type="http://schemas.openxmlformats.org/officeDocument/2006/relationships/hyperlink" Target="file:///esperimento%20dl%20ghiaccio.doc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I%20corpi%20galleggianti.doc" TargetMode="External"/><Relationship Id="rId3" Type="http://schemas.openxmlformats.org/officeDocument/2006/relationships/hyperlink" Target="file:///I%20corpi%20galleggianti.doc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i%20fenomeni%20atmosferici.doc" TargetMode="External"/><Relationship Id="rId3" Type="http://schemas.openxmlformats.org/officeDocument/2006/relationships/hyperlink" Target="file:///i%20fenomeni%20atmosferici.doc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Il%20giorno%20e%20le%20notte.doc" TargetMode="External"/><Relationship Id="rId3" Type="http://schemas.openxmlformats.org/officeDocument/2006/relationships/hyperlink" Target="file:///Il%20giorno%20e%20le%20notte.doc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4.jpeg"/><Relationship Id="rId5" Type="http://schemas.openxmlformats.org/officeDocument/2006/relationships/hyperlink" Target="file:///L&apos;acqua.doc" TargetMode="External"/><Relationship Id="rId6" Type="http://schemas.openxmlformats.org/officeDocument/2006/relationships/hyperlink" Target="file:///L&apos;acqua.doc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jpeg"/><Relationship Id="rId3" Type="http://schemas.openxmlformats.org/officeDocument/2006/relationships/hyperlink" Target="file:///il%20fiume.doc" TargetMode="External"/><Relationship Id="rId4" Type="http://schemas.openxmlformats.org/officeDocument/2006/relationships/hyperlink" Target="file:///il%20fiume.doc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1052280"/>
            <a:ext cx="61736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Bauhaus 93"/>
              </a:rPr>
              <a:t>Giocando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95640" y="400536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51280" y="39337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Bauhaus 93"/>
              </a:rPr>
              <a:t>impa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auhaus 93"/>
              </a:rPr>
              <a:t>Di cosa è fatta la ne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451640" y="4076640"/>
            <a:ext cx="1360440" cy="2232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rot="10800000">
            <a:off x="7308720" y="1700280"/>
            <a:ext cx="1548000" cy="1008000"/>
          </a:xfrm>
          <a:prstGeom prst="wedgeRoundRectCallout">
            <a:avLst>
              <a:gd name="adj1" fmla="val -24055"/>
              <a:gd name="adj2" fmla="val -145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er saperne di pi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51280" y="2997360"/>
            <a:ext cx="3816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Bauhaus 93"/>
                <a:hlinkClick r:id="rId3"/>
              </a:rPr>
              <a:t>L’esperi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51640" y="198900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0920" y="907920"/>
            <a:ext cx="390348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42920" y="0"/>
            <a:ext cx="68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uhaus 93"/>
              </a:rPr>
              <a:t>Perché le barche galleggian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5805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uhaus 93"/>
              </a:rPr>
              <a:t>Ecco nostri esperimenti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05780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6920" y="274320"/>
            <a:ext cx="302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...all’aria aper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812000" y="4365720"/>
            <a:ext cx="1059120" cy="1738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10800000">
            <a:off x="7308720" y="2276640"/>
            <a:ext cx="1548000" cy="1008000"/>
          </a:xfrm>
          <a:prstGeom prst="wedgeRoundRectCallout">
            <a:avLst>
              <a:gd name="adj1" fmla="val -24055"/>
              <a:gd name="adj2" fmla="val -145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39720" y="2349360"/>
            <a:ext cx="20354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Per saper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39640" y="76320"/>
            <a:ext cx="51865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en-US" sz="4000" spc="-1" strike="noStrike">
                <a:solidFill>
                  <a:srgbClr val="000000"/>
                </a:solidFill>
                <a:latin typeface="Bauhaus 93"/>
              </a:rPr>
              <a:t>e in cucina,  per capire cosa succede mentre l’acqua boll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0920" y="5667480"/>
            <a:ext cx="4969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795636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19640" y="-244800"/>
            <a:ext cx="1800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it-IT" sz="2400" spc="-1" strike="noStrike">
                <a:solidFill>
                  <a:srgbClr val="0066ff"/>
                </a:solidFill>
                <a:latin typeface="Arial"/>
              </a:rPr>
              <a:t>Sezione D della scuola dell’infanzia di Via Corinal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it-IT" sz="2800" spc="-1" strike="noStrike">
                <a:solidFill>
                  <a:srgbClr val="0066ff"/>
                </a:solidFill>
                <a:latin typeface="Arial"/>
              </a:rPr>
              <a:t>Insegnan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Antonella Rossi Annamaria Saggi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ff"/>
                </a:solidFill>
                <a:latin typeface="Arial"/>
              </a:rPr>
              <a:t>         </a:t>
            </a:r>
            <a:r>
              <a:rPr b="1" lang="it-IT" sz="2400" spc="-1" strike="noStrike">
                <a:solidFill>
                  <a:srgbClr val="0066ff"/>
                </a:solidFill>
                <a:latin typeface="Arial"/>
              </a:rPr>
              <a:t>Il progetto è stato ideato da</a:t>
            </a:r>
            <a:r>
              <a:rPr b="1" lang="it-IT" sz="2800" spc="-1" strike="noStrike">
                <a:solidFill>
                  <a:srgbClr val="0066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ff"/>
                </a:solidFill>
                <a:latin typeface="Arial"/>
              </a:rPr>
              <a:t>            </a:t>
            </a: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Antonella Rossi e Luisella Calcag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ff"/>
                </a:solidFill>
                <a:latin typeface="Arial"/>
              </a:rPr>
              <a:t>         </a:t>
            </a: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Presentazione realizzata dall’insegnante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Alessandra Trig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1484280"/>
            <a:ext cx="42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SCUOLA STATALE DELL'INFANZ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SCUOLA ELEMENTARE STA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"MAHATMA GANDHI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492360" y="260280"/>
            <a:ext cx="16192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Bauhaus 93"/>
              </a:rPr>
              <a:t>Le stagion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87640" y="5013360"/>
            <a:ext cx="1209600" cy="1844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5400000">
            <a:off x="972000" y="5228280"/>
            <a:ext cx="1079280" cy="1655640"/>
          </a:xfrm>
          <a:prstGeom prst="wedgeRoundRectCallout">
            <a:avLst>
              <a:gd name="adj1" fmla="val -21324"/>
              <a:gd name="adj2" fmla="val -87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5394240"/>
            <a:ext cx="122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Per saper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587700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72000" y="5484960"/>
            <a:ext cx="36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cco come abbiamo realizzato i nostri alb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971640" y="1484280"/>
            <a:ext cx="7056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Stiamo dipigendo le chiome di verde  e di marrone…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897000" cy="5229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43560" y="1628640"/>
            <a:ext cx="38368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71280"/>
            <a:ext cx="4932360" cy="6597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867280" y="1628640"/>
            <a:ext cx="2881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.e qui stiamo dipigendo i                       tronch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uhaus 93"/>
              </a:rPr>
              <a:t>IL GIORNO E LA NO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7308720" y="2276640"/>
            <a:ext cx="1548000" cy="1008000"/>
          </a:xfrm>
          <a:prstGeom prst="wedgeRoundRectCallout">
            <a:avLst>
              <a:gd name="adj1" fmla="val -24055"/>
              <a:gd name="adj2" fmla="val -145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812000" y="4365720"/>
            <a:ext cx="1059120" cy="1738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380360" y="2276640"/>
            <a:ext cx="14032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Per sape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Di pi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6491160"/>
            <a:ext cx="626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6093000"/>
            <a:ext cx="74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609300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.. SE LA TERRA FOSSE UN GOMITOLO E IL SOLE UNA LAMPADINA?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24000" y="1041480"/>
            <a:ext cx="692280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LLA NOSTRA SCUOLA PU0’ SUCCED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059280" y="404640"/>
            <a:ext cx="293364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57240">
                  <a:solidFill>
                    <a:srgbClr val="00336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auhaus 93"/>
              </a:rPr>
              <a:t>L' A C Q U A</a:t>
            </a:r>
            <a:endParaRPr b="0" lang="en-US" sz="6000" spc="1" strike="noStrike">
              <a:ln w="57240">
                <a:solidFill>
                  <a:srgbClr val="00336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auhaus 93"/>
              <a:ea typeface="Bauhaus 93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7380360" y="4653000"/>
            <a:ext cx="884160" cy="1450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rot="10800000">
            <a:off x="7308720" y="2276640"/>
            <a:ext cx="1548000" cy="1008000"/>
          </a:xfrm>
          <a:prstGeom prst="wedgeRoundRectCallout">
            <a:avLst>
              <a:gd name="adj1" fmla="val -24055"/>
              <a:gd name="adj2" fmla="val -145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08720" y="2276640"/>
            <a:ext cx="15112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Per sap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971640" y="1916280"/>
            <a:ext cx="5040360" cy="47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835280" y="33336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11280" y="333360"/>
            <a:ext cx="36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Bauhaus 93"/>
              </a:rPr>
              <a:t>IL FIU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812000" y="4365720"/>
            <a:ext cx="1059120" cy="1738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rot="10800000">
            <a:off x="7308720" y="2276640"/>
            <a:ext cx="1548000" cy="1008000"/>
          </a:xfrm>
          <a:prstGeom prst="wedgeRoundRectCallout">
            <a:avLst>
              <a:gd name="adj1" fmla="val -24055"/>
              <a:gd name="adj2" fmla="val -145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84960" y="2401920"/>
            <a:ext cx="161928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Per sap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50920" y="2090880"/>
            <a:ext cx="68641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10:34:07Z</dcterms:created>
  <dc:creator>ALE</dc:creator>
  <dc:description/>
  <dc:language>en-US</dc:language>
  <cp:lastModifiedBy>FABRIANO</cp:lastModifiedBy>
  <dcterms:modified xsi:type="dcterms:W3CDTF">2004-01-15T16:20:40Z</dcterms:modified>
  <cp:revision>79</cp:revision>
  <dc:subject/>
  <dc:title>Per saperne un po’ di…</dc:title>
</cp:coreProperties>
</file>